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2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</p:sldMasterIdLst>
  <p:notesMasterIdLst>
    <p:notesMasterId r:id="rId158"/>
  </p:notesMasterIdLst>
  <p:sldIdLst>
    <p:sldId id="256" r:id="rId159"/>
    <p:sldId id="257" r:id="rId160"/>
    <p:sldId id="258" r:id="rId161"/>
    <p:sldId id="259" r:id="rId162"/>
    <p:sldId id="260" r:id="rId163"/>
    <p:sldId id="261" r:id="rId164"/>
    <p:sldId id="262" r:id="rId165"/>
    <p:sldId id="263" r:id="rId166"/>
    <p:sldId id="264" r:id="rId167"/>
    <p:sldId id="265" r:id="rId168"/>
    <p:sldId id="266" r:id="rId169"/>
    <p:sldId id="267" r:id="rId170"/>
    <p:sldId id="268" r:id="rId17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notesMaster" Target="notesMasters/notesMaster1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slide" Target="slides/slide7.xml"/><Relationship Id="rId166" Type="http://schemas.openxmlformats.org/officeDocument/2006/relationships/slide" Target="slides/slide8.xml"/><Relationship Id="rId167" Type="http://schemas.openxmlformats.org/officeDocument/2006/relationships/slide" Target="slides/slide9.xml"/><Relationship Id="rId168" Type="http://schemas.openxmlformats.org/officeDocument/2006/relationships/slide" Target="slides/slide10.xml"/><Relationship Id="rId169" Type="http://schemas.openxmlformats.org/officeDocument/2006/relationships/slide" Target="slides/slide11.xml"/><Relationship Id="rId170" Type="http://schemas.openxmlformats.org/officeDocument/2006/relationships/slide" Target="slides/slide12.xml"/><Relationship Id="rId171" Type="http://schemas.openxmlformats.org/officeDocument/2006/relationships/slide" Target="slides/slide13.xml"/><Relationship Id="rId1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dt" idx="169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 type="sldNum" idx="170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1B81DF-EC23-42AD-B078-576A07F24D3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B6026D-B315-4B5F-8165-A1898A8296C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8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CA84EB-CCE6-4441-A41A-9BF0EF6B957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065696-BCCA-4A11-A2B0-6C81B08EB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DDC578-6440-4870-8B65-771C75ACA1F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74F715-C8B4-4916-84B6-9132A32A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70C025-C1D7-45DB-880F-888DC12751A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8F8395-9329-48AA-93BD-C58D2570A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449B33-8492-40EC-8BBC-ABD785CFEEA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55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45B427-3513-4F17-85C2-F519D4A378D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848C07-EA93-42C7-A12A-548A93A6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F0B10A-78AC-4E07-BDD2-DCAE9E69E72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0D40ED-F6D2-4FB0-BF4B-9C6FC8ED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A950DB-D76B-4E04-8AD3-91BC50EBE34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5E3036-BB63-4A8A-8407-C68B5341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B761AC-3A48-44B6-9DBC-81AED82BE65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48EF90-5FC4-4648-9F02-2933734B9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08A91A-8B02-417C-97C2-7983385A859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F8074C-AC5E-46D1-BDE8-9AC568353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F3E4B-1AA3-40EF-A83B-838DA0E28DB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83D8D0-86D9-4B21-8C27-EC46498BB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7D5D00-9DD1-43F0-AFD9-691627DAA05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DF24C-532C-4B10-9234-3297BD5F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82B78E-6D00-4F86-A150-E52164EBFA1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EE9FD3-7DC7-4203-A84C-F7668AAE5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BD33-1EE2-46CA-872E-7DEAEBC0D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64C0-01D3-4774-9ADA-0A684AFFD5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4261-CC8D-4F3C-9BAF-876FA0CE7674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7103685-76B2-4458-9B75-366177A8C51C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BF2D04D-39D5-4A80-B96C-10E76B2C1A0D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B45F41F-57AB-4F6A-9730-636465F9F624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0955896-6F2E-4308-BAAF-FE9C4A968CC2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84FC82D-2305-4C0E-A606-B7D8C9EF37BE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FD86D5C-C3D8-46F8-BF18-559120ED3359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EE6DB7C-5F68-4AD3-AA66-A26A96E4C3CA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D9F23D9-E582-49F4-AAA7-EEF82FEDED24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9C5F3AB-DE02-469B-97A2-E64D6BF406FE}" type="slidenum">
              <a:t>&lt;#&gt;</a:t>
            </a:fld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3CCE782-B659-4441-822C-8A013DF12F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360D-AFD0-4AFD-B158-63E5B66B23D3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07016CC-9771-4C97-96A9-97C542778293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240621-1CE6-4524-9F2B-77A485B439BE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6691CDF-23A8-4440-BED9-F7B986CF366A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14896EB-2768-4BF5-96F1-C09B78577CEC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01073F6-8905-4344-B4FB-84C15724810C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C1F38A-BAC6-43AB-BB8A-48B1E097B8DF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A1B949-6806-4EA7-8F43-418AA314C66D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B34A0DC-5A17-417D-A4C4-4CCF91BB4742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4027C83-1863-42D2-9558-C5F623E75B08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0A60840-A37B-4F54-B50C-A43FA16DA5A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78A7-53E5-48E3-97AB-DA7DF273CFA3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570E75-0E29-400B-8A41-03A3A2B2D2A0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4023C5-69C6-443E-9FB3-B2640D4E5FE1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97CC6D-8FE8-4133-8976-7A02EB8C9B55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D6E2F4-D89D-4275-A2F5-2B495AA45B46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DBE906-F6A0-4184-93E6-AFCF8BA27F1C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41A166-94FD-42A0-8AA3-1B8E8CE8466F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35FC77-20E2-4F7C-9C02-34779C0DD601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BA9FD6-EBC0-48C0-B4AE-193618B11C5B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CA2764-C014-410B-A55C-F2BBF7B12278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CF9A39-F634-44DB-9CA3-E51E2A0D27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B14E-1FFE-47A7-89CB-23FFBA43AFEC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117EA7-12FC-4A27-A2AC-B09E75F89F4F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6847B3-8FDE-4A5F-94DF-43CD22CEBA55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B1848F-DC45-47EA-A9D2-5614E0931F5C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817F884-D207-49D3-98D4-D1A476A0F0E1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EBFCCFA-552C-4F1E-B5F8-66443859876D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EAD8F5C-35E8-445E-B030-DEF8D88A8372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1BCE1E7-84BD-48A6-A1D0-F67C7190191F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184A15B-9307-437D-A6DB-7DDE3B34A59A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A29774B-9AE8-419C-8367-4FBA4D9294C5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080B877-02CF-4FEA-B9B4-9DDF353364B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B9A2-D71F-4C02-B52E-4081CA5D97D3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940902D-5CA1-4EEE-A98F-9F6410A9734A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DFEFD33-C1D8-49DC-A15E-34C941D52E8A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6AD5399-F76C-41D7-AAB6-98D20F603F13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17A71B-7620-4F89-B127-7361F167A35C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31510DE-035A-4F8B-8A28-F33083D6AD93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D6255DE-36D9-47F1-A4F1-DA56B4491B13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8569BFF-183A-4450-88D7-A3347A908DC5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4E6379-9609-493D-8D1C-187639393736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363C17A-0239-4051-998F-93F3E275C417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89A55EE-483B-4A77-9443-A9BD032C15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09C3-4922-44E3-92A3-35C158A3CB69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B446EC-0D62-4F19-92DC-37C33114A7DC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64E4BB9-961B-4AD0-B157-EF0170F5C94E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409B46F-6250-4CE8-AF33-07E92A23F3A7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D7F9DE3-D0B2-4A19-8C6F-7CAD4067106E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ACF48DC-EF94-4045-9F24-32C1C541A33A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B0A1D41-AADF-438A-92D5-1FC6AC6B54A3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8D00EF6-AF75-4DA4-9356-B5B1A8BE52A5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DF636E-0A60-4738-A37B-62AFFB466FCD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E08490-ECBE-459B-9C80-1880E663BDBF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776C92-A472-48C8-91F4-E04DF97100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72B8-0667-41BC-BB41-914C85B15594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D1D05A-102F-41F5-ADBC-C1DF5851B04E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6741A0-6F87-46DC-9A2E-260A41DB7878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3BDDC6-1289-43E9-88DF-1366B71027A9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261A20-4977-4B5F-813E-A724BEDF5FEF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76CA57-52D4-4092-B953-508C2032DE58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B51C95-459A-4A51-97CC-631045EA23D2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74F407-7B28-4E42-AE8D-2E04EA486B3E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9F355D-2B3B-40C0-8DAA-F703FF881BC1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84C15C-EE27-4BD0-8AD0-B6F5C71290F9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A781203-3B60-432B-A1C0-560F883712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B8DE-E628-4860-89A2-C288DF7666BF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4CAFEC-17AA-429E-98EF-76F26C025634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B654400-7327-4884-B1D7-6A5AEA7F6A09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9902F7-52FF-44A9-98AA-273A06503E4F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07C2DDA-5EAB-4289-8426-FD3D1954B98E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762D2EA-0949-417B-9B03-D9C26D9D5501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4D8B84-1C8F-46A4-9F84-6A6134BF869E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1E9A294-AD48-4FCD-A459-04497DE3BB60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579E226-FE85-4A74-A282-2822A76A00E3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5D67911-FAD3-4052-97E5-4C56821ED250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B206D2D-8BCE-436B-94AB-637CBE84DE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ED5C-AE54-44A3-AE62-13C156E16F02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19F0EED-EAD5-42E6-99DC-CFABF173CEF2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6A10B2C-255C-456C-A207-6AE9EAAB6EC8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7E44043-6F16-4F4E-8381-9BE3E81B96E7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CEBCF6B-85E6-49A1-85D9-379B145FA741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CF594B-2433-4C82-BEEF-9675A045F3FF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D278261-4B34-4B69-BB5D-BA52F022753E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BE7D2A1-39AA-47F5-848B-DE7AE3C35625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DDD7792-34CE-40E0-B382-6DDBFFBC2929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A7A5D28-779F-4F92-BAAB-A9CF2C69AF97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65DE1E8-4DA7-4F10-A535-2DC9EAB09EC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D174B-1273-4F70-9076-C1C7916BE3D3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0BB686-C353-41E0-BF96-23F88310E3AC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6AC2789-11FF-4F07-B3D3-0047FF5E414C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AB2868F-BB6F-42A0-9C51-25633096C233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9B65D8-B186-4FDB-8D3A-3E3874853DA7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1DAA73-DE14-4711-B5C5-B2279825EA5B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799A45-0DF2-496C-AF4A-F772DF812222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75ADF3-DFC9-4976-A5AA-0A56CE806316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AD2A7E-0561-46C9-84D7-D4A8FD00CB67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93F2A2-B7EB-4117-B86C-E7F2A625E374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8B750A-C391-43C6-9319-E30515C82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4EEC-45C6-402F-955E-FE14D0745D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5D5DF-719E-4964-BCAF-F5633C3BF886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2022C3-AE76-4F8C-9C24-0C23E2802C44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BBCCA3-FAEF-49FB-907A-709AD3A6B92B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3FAEC7-79CF-4A77-BA4F-AA631EE8A3BE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97949A-0841-483D-8E22-A6BBA80C5480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5153AD-E2E8-406F-A77B-2590324A3D18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F75B9A-FE3E-4A46-9FB4-BE1EF9420C2C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A71234F-D3A3-4724-96A1-6E1441189E1A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6007DB-9476-4EB5-9D73-47998A02E822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3F3247F-BE38-4B4D-86E6-F995E0917A1E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6AE77CB-AECC-4B5B-B414-4E3F94A60B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97201-60D6-4806-B03D-056350B1D8F2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2026D01-65CE-407F-832C-67CD56D020B2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36BBCCA-31AD-4F95-A9F2-62B7A7C4797C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79CD0A9-35DC-490B-BC24-362D8C9ABF89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5312E36-572A-470E-9EE8-5DCFAA462EF5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605B910-E87E-4A72-AA58-F01A76FFF0BE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55E8836-EB3E-4428-8CFD-03B35E32532C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8217782-27D8-461F-B867-E9B52383BDC6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FE81810-3E68-4756-876A-8BFD704C9650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B6E73B0-9851-4389-A785-34C52E20D8E8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4CA0F0A-0D4B-44D9-BA45-5CCAD1DF1C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6A332-CD53-45A0-9EF5-21559EB66B07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8D600D1-6A42-46A5-8B62-51814715C167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4442ABD-9F65-4ABB-A9CF-FA6D5F3E0BC1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7528445-737E-40F6-AE1C-48080C450318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C92B300-3D4A-4481-9879-3EF3B6B2F77A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E56ED42-262B-4798-AB3A-5C1B1A5ADB8F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0007CE9-5861-4042-94B9-BE43DA515F34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84D652B-84C1-4BF8-8736-6EF29A7E3DAD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90E2F52-193F-4E6F-B48C-A5E3BAE7B8BE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E8076FA-F284-4D19-B82E-87330C560C7B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2E8424-FFBF-4025-929B-35D3C229771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680AB-39BF-4AB4-902A-037D40369E41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F182E9-FE18-437A-B66A-9D0498C3D297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D7F7B1-C5AA-4191-B74D-FBE29724842E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B7BDC1-E29A-4A40-AE2D-4846C749A97A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21A39C-0030-4F08-AA14-FA17301CD970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48CC10-9CF1-4DA9-9514-0306930DDC89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F32D1C-C5EE-44A0-8A77-ACC5B5762E4C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679EBE-B682-4D48-BA41-74A7B010BA17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02CA1B-FE4A-4DC0-9E49-244C53FE7B2E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5B162B-E75A-4DAC-A30A-BE632C2C4878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EB8415-0511-4297-A431-674B7542A4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DB705-CAB2-4EA7-8A35-B4664D5CA629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BFBCD8-4A49-46CB-B67F-5CAF780E9FC5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5736B79-E7E8-4A61-A962-A8F2E95CEDC0}" type="slidenum">
              <a:t>&lt;#&gt;</a:t>
            </a:fld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F00B2F6-B985-4CCB-90F4-8BFC7BAE4D35}" type="slidenum">
              <a:t>&lt;#&gt;</a:t>
            </a:fld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AE5D112-73F6-438E-A089-FD1E5F5210D4}" type="slidenum">
              <a:t>&lt;#&gt;</a:t>
            </a:fld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6D854E5-D7F7-4B21-B954-B068BF5B4CFD}" type="slidenum">
              <a:t>&lt;#&gt;</a:t>
            </a:fld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3D46002-18F3-4772-A97E-F63A9FB5E26A}" type="slidenum">
              <a:t>&lt;#&gt;</a:t>
            </a:fld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03C743D-F0F6-4724-AB4A-E6EF95582476}" type="slidenum">
              <a:t>&lt;#&gt;</a:t>
            </a:fld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A3177C7-2B72-4891-B7D0-9C1A315CF7A5}" type="slidenum">
              <a:t>&lt;#&gt;</a:t>
            </a:fld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382E62-F1F3-46F4-8D67-A43EF0E384DA}" type="slidenum">
              <a:t>&lt;#&gt;</a:t>
            </a:fld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BB31603-CD98-49AA-B5AE-81FED950BF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3D50E-FB16-4176-B46B-6FD88FBE986C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05F31B5-6B5D-4891-A82E-6069A1FADE65}" type="slidenum">
              <a:t>&lt;#&gt;</a:t>
            </a:fld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5FB1157-715C-4857-BF39-6BA6426DDFDE}" type="slidenum">
              <a:t>&lt;#&gt;</a:t>
            </a:fld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79609CB-B54F-4D58-B6B6-69CE204D2E3E}" type="slidenum">
              <a:t>&lt;#&gt;</a:t>
            </a:fld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3F17C34-4055-4190-8EA6-AB35D65DCBF3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5B7CBB5-66B8-4BC7-B6C0-5E4AEBE993CE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5A35D24-D2DB-4979-BD34-660514A77450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1B89E83-7F2D-4DE2-8EBA-414A1BDCB5E2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0225BC-9776-41E9-8CF4-A49099C5D45B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6737653-6B30-4B65-A9F9-78D50C7BD482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7AF1796-13CC-4CD9-AD09-3CC8760001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D1BA3-D085-4303-B9B0-8D17B0ED3373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CC8398-08F0-4FE9-91C6-7EB91307CF3E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903AF4-0348-45DD-B8AC-7F2364D801AA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E78E715-3DA3-4AE5-AB80-5A50FBD7E0CB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9F9C4D-8F1B-4D45-8FCE-52E72E49354C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5262019-94BC-4FF7-AFA8-E8F7E6105911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230E27-1D62-4576-AEBF-BEFA9FA51CB2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6DB97E-78B2-4503-892D-98298120C5B1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350FEB-E94C-436F-B4B0-681695076CE5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554FE2-0A12-469E-A0B4-61E011DEB034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8E4C53-11DA-4E30-8CDA-B4FC8D516A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D866F-4EDE-4D52-A8EF-357066E243FC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BDA045-9E71-4B35-BF6B-4E97C2571146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E3B884-6B5E-4437-93AD-B331EC40BE55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EA9BDA-2D0D-4041-B9C7-29923A7BCC32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0BA9F9-9CFE-4877-99BE-E1B3BB4626BE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0E046B-2A40-4CB4-A56B-E37CC5693CBB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01FB78-43E1-46A5-A407-5D9B0BF2CD5E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A8CA04-1B49-4126-A2F0-D1684D62856F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94F220-40E9-4D53-BA0D-714DB263407A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725BEC9-86E8-43CA-A162-022265127839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1D24A0-A34C-46A7-BB76-1024F48BBB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9AA23-D83A-4ECF-96B9-30897B944D81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647EBF2-5381-4220-8F28-621DBADBAC38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B02AF86-81C4-46FA-8688-B3E6F2EAB87B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CD2E063-2E13-4F04-94BD-D31B32FABD8E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B64B83E-4977-4DB6-B5F6-FA680F2F77EB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13906D6-5596-4284-B1E3-AB41512B8C8C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FFF4C16-3C5B-4B4A-91DC-D16ED8185C69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0D41F81-C55B-4438-B5F3-D746B4D1BE91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C76A94-7787-4982-A1FE-2D6DDF8EF026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A92295-FAF4-46C3-BDD5-81667AC53997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0DADFA7-A67D-4C15-A397-DC0A1496BE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6C08B-DC65-45FB-A104-FDED56A9ADD4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D3686E6-FF85-4551-A224-B34B2A6B25AA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0E48606-A136-4F5D-86F2-275B1B439FE5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324FA04-8C33-403F-A06B-5762BBC8FD19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F137087-6ECC-409F-842C-8A87EAB61733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49BE264-B9ED-4551-9195-7D16FC434056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FDC5D25-6628-4649-8714-F43A242698F1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75C8A12-2D5C-4CFF-9121-F53EB01CA37B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17B713A-FB63-4D8F-9733-1F041B1F3069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F3DE0CD-410A-4C3E-A636-AA27D43313AB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0E904B4-6C35-431D-A803-B6FC9E549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AB02-6E80-4DDB-939B-FB6332DBC14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803EA-94E7-45A2-BCCF-5D609558FD1F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8CC7118-7225-49F4-A8C5-AFA172EBB816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C057D4-EE4F-448A-9552-85B797984CF2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3765F5-5075-421E-899B-47764794EF5F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3FA88B-21FA-47E1-B71D-82D1A92A9062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CF75F7-A5E0-4A7A-8900-578AA7DC7050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AA8692-5177-4EA2-AF9E-EA7C3657E012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D09A29-6199-4817-8A93-1790CD695ED0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64459B-EAFA-4C1D-9141-FF27C1109C60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D3C9E6-EC40-4D66-9BAD-FA3A8478037A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DAE4A0-3B82-499A-A83F-8FB6BA09F5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118DF-EBDC-4BAA-A9B6-73D0254E310E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0A8864-3256-469F-B957-75973053BA44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31202D-91F6-422C-8FDF-8C5A095BC877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66D137-79DC-4E2E-B82F-A2C763BEA584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30F50DB-8A09-49EC-91FB-18AF700B6E74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2613372-DE95-4AF8-B122-F02447AED017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F6C0EDD-D976-4FA8-B33C-914165C42C99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9C4F38C-0F92-4EB6-9A08-3291312F8F2A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8052C02-9246-41ED-A106-2175833B401B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ADB338C-D363-4E56-B138-B4A0CB8E1EC7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55BED6E-B5C7-4A90-9198-9B265D820A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D701F-6B4D-4409-ABBE-DCD9723D420F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B39BBF1-EDCD-41DA-AFC5-718DD51F9783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F07D580-8E59-4B53-B178-38EF4F9B27D8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D90E128-0D2F-4B45-ACAD-287CD7825FE8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205A5E6-6221-4C69-A97B-3AB20FAA3676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80A82C5-86BD-4581-8691-380A96CD911B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53E61A6-1F8F-4CC0-A5EC-02E3BD4B0735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0E7567E-E220-42BE-B323-6F03F9FE49A8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E7776A-832E-4237-99D7-1B78DBA07D93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EBE22A-08F1-4659-8D1D-612EE04C7205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7777910-5C58-4992-9DA7-EA0659D2E1F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1D11C-84F0-4A16-947A-B9B832C6803B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841D37-1143-4825-8B69-020219B7B07E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79ABBCC-FAF2-4D9B-8740-60DCF3213F0D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B92843-6280-4E00-B522-8B5371109B52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D78110F-AEB5-4A83-A10C-6CD196C7BB83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BCFC4DB-73EE-4B3A-827F-D053AB04252B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654E0E-8A05-49F3-BD87-05C389635CBD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4C9BE03-BE78-486E-9A82-4997C3A3B9D3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CB4A73-846F-4BA5-AFAF-E5E4B99AD15E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AC88E3-78F0-4629-9154-E52EB067CCCA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C0A45D-4274-47D9-872E-6E44621DFB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D00EC-E5D0-45E8-8926-B7A913445EE4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A82727-A146-436F-8027-8D689543651D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CA7333-200E-459A-9059-AF4C38C805A7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62439F-CF3D-483A-9C94-E45454B93EA4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A17289-BF8D-4583-A2CD-D6498BD468DB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24647A-3E73-4041-9088-6C867E79C7E5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9C6A17-86EB-456D-8320-EC2CA667B991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0661B6-6003-43EC-A802-A79FA54F6616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D73328-37DD-4E0F-BAAD-A108609BDC92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DACC54-45CB-4C8E-80FB-4E08C2B718BD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5C55132-C977-485A-B03C-6E7FA4BE98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728CC-60AF-40FE-87C0-2BB51DAD0778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B23DE2A-481A-4ECE-8A8F-D3C2DF670497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7BD5FFC-AE7E-4329-A1D6-2E07D4CB4DF7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A8B157-6C57-4687-984D-7D1828CFF197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67FAEF7-73AE-495A-9825-B067238E78E8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2DC89C6-DA52-4FBD-BF1F-E8DFC2623E39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7033AF8-1F82-4B45-981E-C550A7621383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EC6878-70EA-4D0E-BA57-FE5F57352F8D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9F530C7-FE61-4187-BDAA-6A61E6772D51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8FDF0C7-F584-4283-8B5D-34A7D521E224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AAE0E7-252A-469A-B66E-5D6E8990A1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25703-16BB-411E-B517-6B647FD33034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CCAC87B-677F-4001-AD1C-E6B900EC5D8F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3DDC5E7-6F90-45DA-ADE6-6599ECC38299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4FC443A-F3BA-44C1-8321-FC3F1D7FB1FF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515EC7C-409C-4117-8320-45190C43E98D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0E1019E-8BD3-4F6C-A379-DF52810F92C9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0DC20C-FE7F-49D5-9CF0-FC3A8B7FB6A8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C45A55A-8A41-4062-9C02-37AB758C1971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AC600DA-0B55-4B2F-A2BC-2B23883DB210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705121E-D3FD-4D67-A90E-B6B5F29FB9C4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ECB3700-0733-4A32-A069-48056D3167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04B0F-470F-4698-9BF2-B145A8C8028F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CBCFCA2-0D37-4E43-9003-345A01A69CD3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A9E79E0-28A1-4BAF-8F63-39E4F7A2B3D5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6D61AD2-1464-4FC7-AD57-2F9EF41F9CEA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3D2F91-8078-4F0A-ACDA-0B3F2EABB563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58F0E0-1790-420B-B6C8-1702A5A6412C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865660-AC88-4E73-B4EB-176948565601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B930CC-4164-434C-B9E3-D8351B85E9ED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64C631-993B-417E-A5DA-23A96086FE16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93D618-110A-4D2B-BA14-9DD1CBE3857C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F8FF6F-E920-47BB-8E7F-41E8455EDF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7F960-25E6-49BC-A1DC-3D9717CE6466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6978D7-D144-4C58-9B83-90D399CCF45E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BE726E-EC63-4457-B68A-E55AC4619E0E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4E0FCE-A6A8-4024-9717-BC8E93A2906F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F38DAE-984B-4FF8-A049-33915A043F03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A1F530-187A-4F9F-92E3-9CB0AB112542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CA59AC6-C171-488F-BF7F-0FF98937307F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B99EB08-B24D-4238-A6D0-23B6E8D733E6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A87DE46-40F8-4DD0-8FA9-E04A53E1D083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354C51B-D6E3-45E9-AAAF-3CC11BE9152D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B72CC5-E7DC-4B65-8FDE-F16BA30804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3FAD4-4826-4DF1-9ECA-C0DA0EE1445B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B7BF03-DC86-4303-800A-06B3163BB722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A381E40-B1EA-45E6-9CED-5DDB3B9FBB61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45DDD7E-7C53-44E0-BA8B-7E1526AD9662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554B4D4-7694-4C2E-B07B-E25BA685DE8B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2AA5CD3-A30F-4C96-B47D-A73CD1407F7C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090226A-D729-4FC9-AA5B-80EDBC3F3CF2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D8D1EBB-ABED-4AF5-8898-D5B8F5969498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05D11BF-2291-4A3B-A3BF-8D4F0B6FC13D}" type="slidenum">
              <a:t>&lt;#&gt;</a:t>
            </a:fld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776938-175A-43C7-9FC1-2BB823A69B2B}" type="slidenum">
              <a:t>&lt;#&gt;</a:t>
            </a:fld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EB73DED-3FE2-4D7B-9DC7-D7F68B146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8202-8B11-425E-897C-38D81CEAC3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7706D-F7C4-4AB6-A790-6F6C4C591B39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7233606-684D-4AF1-88E9-ED333B141C3F}" type="slidenum">
              <a:t>&lt;#&gt;</a:t>
            </a:fld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0519DB-C8A9-439B-BE39-BA9690E44B07}" type="slidenum">
              <a:t>&lt;#&gt;</a:t>
            </a:fld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DD23FE6-C6A9-4D2A-8A04-CC6F3CACC002}" type="slidenum">
              <a:t>&lt;#&gt;</a:t>
            </a:fld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BC897BD-6C80-43CF-825F-7CB0F27EDABA}" type="slidenum">
              <a:t>&lt;#&gt;</a:t>
            </a:fld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25774C2-B225-470F-A9B4-87BB937480FC}" type="slidenum">
              <a:t>&lt;#&gt;</a:t>
            </a:fld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F338E1B-19E4-4481-A5DD-768EA8969312}" type="slidenum">
              <a:t>&lt;#&gt;</a:t>
            </a:fld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D9EF954-014B-4C1E-9820-388A577DFF4A}" type="slidenum">
              <a:t>&lt;#&gt;</a:t>
            </a:fld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ABB9214-D875-41DE-9E1B-239260257EDC}" type="slidenum">
              <a:t>&lt;#&gt;</a:t>
            </a:fld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847761C-8E53-42AA-BB21-20E185C2DEC9}" type="slidenum">
              <a:t>&lt;#&gt;</a:t>
            </a:fld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7ED1DA-D083-4572-951E-AF68ED8FC3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40CD7-D630-42A9-83DA-F20D7E00A4AF}" type="slidenum">
              <a:t>&lt;#&gt;</a:t>
            </a:fld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4667B8-F009-4523-BE2E-74B531D54BAA}" type="slidenum">
              <a:t>&lt;#&gt;</a:t>
            </a:fld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82C8D7-BA3D-4450-BB50-FBEF9735C047}" type="slidenum">
              <a:t>&lt;#&gt;</a:t>
            </a:fld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E8527A-5982-4904-9D0D-E31DA08443DC}" type="slidenum">
              <a:t>&lt;#&gt;</a:t>
            </a:fld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79B927-C511-45F1-B76A-F76249FA1D89}" type="slidenum">
              <a:t>&lt;#&gt;</a:t>
            </a:fld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D633AD-2097-494E-B679-3A37E148620B}" type="slidenum">
              <a:t>&lt;#&gt;</a:t>
            </a:fld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DBC40D-A7D7-48CC-9857-BADA5A286223}" type="slidenum">
              <a:t>&lt;#&gt;</a:t>
            </a:fld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3F4BEC-4C36-4E1F-9B17-C3BFEAF287C7}" type="slidenum">
              <a:t>&lt;#&gt;</a:t>
            </a:fld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9FDD84-4F5E-4992-87E2-5B725F5E6B9D}" type="slidenum">
              <a:t>&lt;#&gt;</a:t>
            </a:fld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640034-89BB-464E-A01C-F902073EE18F}" type="slidenum">
              <a:t>&lt;#&gt;</a:t>
            </a:fld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AD8E61-918A-4199-848E-6025DBB059B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62FC5-2FD1-42BA-B4FF-54453DF7F00D}" type="slidenum">
              <a:t>&lt;#&gt;</a:t>
            </a:fld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4FA1DF-0F74-46A3-BDEC-32A195827093}" type="slidenum">
              <a:t>&lt;#&gt;</a:t>
            </a:fld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7E24608-52EE-4E29-8F41-4F9791DD7547}" type="slidenum">
              <a:t>&lt;#&gt;</a:t>
            </a:fld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B2F8486-8DED-4206-9CF1-0F827B87F415}" type="slidenum">
              <a:t>&lt;#&gt;</a:t>
            </a:fld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01168A9-5FE8-46FA-8187-910D823B28BE}" type="slidenum">
              <a:t>&lt;#&gt;</a:t>
            </a:fld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7928449-6450-451D-9446-5652E24BEC85}" type="slidenum">
              <a:t>&lt;#&gt;</a:t>
            </a:fld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A09ABA3-54E1-4288-A694-96889E6CD033}" type="slidenum">
              <a:t>&lt;#&gt;</a:t>
            </a:fld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887F8BB-0B82-4922-BF94-5AA1353CDDF0}" type="slidenum">
              <a:t>&lt;#&gt;</a:t>
            </a:fld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A785492-0B41-48FA-BFF2-7A0797FA9402}" type="slidenum">
              <a:t>&lt;#&gt;</a:t>
            </a:fld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B0592F5-B850-4C1D-A70B-ECF32348E58F}" type="slidenum">
              <a:t>&lt;#&gt;</a:t>
            </a:fld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3FE2265-CCD8-4994-A2B5-1D4BC584AFD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3142-B5F2-4886-B565-702BEBCCB2D9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A0BDF46-AF53-477F-8721-B3311FB8F6D5}" type="slidenum">
              <a:t>&lt;#&gt;</a:t>
            </a:fld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7DBFDD2-D566-4863-ABDA-B6B3E25B9042}" type="slidenum">
              <a:t>&lt;#&gt;</a:t>
            </a:fld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A2FE0DF-431A-4C3C-91E9-3575F2ED1AA1}" type="slidenum">
              <a:t>&lt;#&gt;</a:t>
            </a:fld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ABC214E-2664-4AD7-9532-04E3B99EAF81}" type="slidenum">
              <a:t>&lt;#&gt;</a:t>
            </a:fld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13B1C26-8D85-4199-8D98-A9240601CF9A}" type="slidenum">
              <a:t>&lt;#&gt;</a:t>
            </a:fld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ED93C33-9D26-4FDF-8AB9-C920AC2EF6EF}" type="slidenum">
              <a:t>&lt;#&gt;</a:t>
            </a:fld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1C2A013-DEB1-4E2D-B49F-EC59A10DD7C2}" type="slidenum">
              <a:t>&lt;#&gt;</a:t>
            </a:fld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E5D891B-F925-407F-957A-493AF46205E9}" type="slidenum">
              <a:t>&lt;#&gt;</a:t>
            </a:fld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AD356B6-1F9B-4DED-841A-6E1954C2AE2F}" type="slidenum">
              <a:t>&lt;#&gt;</a:t>
            </a:fld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D2528E4-0880-4E42-97D7-8E47C1CAF4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05BD-B47E-4E43-94F7-FEE0F863F17E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A21B016-43F3-4DAC-A1FA-0A0315770190}" type="slidenum">
              <a:t>&lt;#&gt;</a:t>
            </a:fld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3762D87-63FC-4BDA-A02A-696AEFFF6722}" type="slidenum">
              <a:t>&lt;#&gt;</a:t>
            </a:fld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55BF1B-5263-46BC-9744-C9B2B9001805}" type="slidenum">
              <a:t>&lt;#&gt;</a:t>
            </a:fld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FB14EE1-E174-4C14-A3D3-0746B27B0C67}" type="slidenum">
              <a:t>&lt;#&gt;</a:t>
            </a:fld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C03EB75-1C4B-4BB5-A20C-E7EB248931AB}" type="slidenum">
              <a:t>&lt;#&gt;</a:t>
            </a:fld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9A7490-1E3F-4E64-B5CB-40FAE095B024}" type="slidenum">
              <a:t>&lt;#&gt;</a:t>
            </a:fld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535639-9BB5-4220-8C12-69676B452A7F}" type="slidenum">
              <a:t>&lt;#&gt;</a:t>
            </a:fld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E1BF76-920E-486F-8FF0-5D45B0C49DDE}" type="slidenum">
              <a:t>&lt;#&gt;</a:t>
            </a:fld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E2F6EE-CDDB-4957-93DA-75945CC5A06A}" type="slidenum">
              <a:t>&lt;#&gt;</a:t>
            </a:fld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4E4C7B-04B2-46A3-89FF-324997C9CC6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0ABBB-DE63-4DED-AB6D-38F9F1BDF5AA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30F90A-DC18-47EF-8893-1E884ED065C7}" type="slidenum">
              <a:t>&lt;#&gt;</a:t>
            </a:fld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D9BFD4-5DB2-4574-834B-6CBA7C3EA85A}" type="slidenum">
              <a:t>&lt;#&gt;</a:t>
            </a:fld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D2E97E-0D0F-47BF-A2FE-038FDE81559F}" type="slidenum">
              <a:t>&lt;#&gt;</a:t>
            </a:fld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2B1229-B76F-4BB4-BCB8-37B7BE67FC6E}" type="slidenum">
              <a:t>&lt;#&gt;</a:t>
            </a:fld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EC4BB2-9CF3-4EF6-93CA-1AA4D2F75F60}" type="slidenum">
              <a:t>&lt;#&gt;</a:t>
            </a:fld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F76A83-A1E0-453A-AE90-95B300BDD5F9}" type="slidenum">
              <a:t>&lt;#&gt;</a:t>
            </a:fld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AAEB78-52C2-4185-BD75-497B70D8A17B}" type="slidenum">
              <a:t>&lt;#&gt;</a:t>
            </a:fld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29D4729-C2A2-4A69-9C2D-EE804D400435}" type="slidenum">
              <a:t>&lt;#&gt;</a:t>
            </a:fld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B696CBA-62D1-4BF5-8C33-D9F630757FCC}" type="slidenum">
              <a:t>&lt;#&gt;</a:t>
            </a:fld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0A5D847-7AE5-4DFD-9329-234A3A1AAC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36D4-199A-445B-A63F-CD08E6EA43BB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042EE21-7198-49F7-A226-646E881A75EB}" type="slidenum">
              <a:t>&lt;#&gt;</a:t>
            </a:fld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508D73C-C113-4127-AFE7-FB06063913DD}" type="slidenum">
              <a:t>&lt;#&gt;</a:t>
            </a:fld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B7E92CF-8752-4F51-96D5-3A630B8F8CB4}" type="slidenum">
              <a:t>&lt;#&gt;</a:t>
            </a:fld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3388AB8-1BAA-48DA-BAF3-F79F0A0C18CB}" type="slidenum">
              <a:t>&lt;#&gt;</a:t>
            </a:fld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45B6FFD-71DB-4870-99A9-A77377CA2081}" type="slidenum">
              <a:t>&lt;#&gt;</a:t>
            </a:fld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D02F34B-9472-4EF8-9B42-0CC0B7C8BF5D}" type="slidenum">
              <a:t>&lt;#&gt;</a:t>
            </a:fld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A9F328F-B2C7-41B9-A63D-760C3417CD20}" type="slidenum">
              <a:t>&lt;#&gt;</a:t>
            </a:fld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28730FB-D386-4DAC-BC95-DD887759DC7F}" type="slidenum">
              <a:t>&lt;#&gt;</a:t>
            </a:fld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7D8C129-CF95-4533-8872-CCB8D04BA323}" type="slidenum">
              <a:t>&lt;#&gt;</a:t>
            </a:fld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D834502-0F05-4545-916C-E3A3D46D9E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44CE-61EA-418D-A943-77559D12BD72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ACA1CB6-20D8-4C8A-A36D-23BAE3869C71}" type="slidenum">
              <a:t>&lt;#&gt;</a:t>
            </a:fld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27909A0-47C1-4A59-ADE0-B1CC64AA1EB1}" type="slidenum">
              <a:t>&lt;#&gt;</a:t>
            </a:fld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024F3DF-C291-4DF2-A741-7700137C57FB}" type="slidenum">
              <a:t>&lt;#&gt;</a:t>
            </a:fld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7FCBE1C-2304-4808-99CE-A993F8B94793}" type="slidenum">
              <a:t>&lt;#&gt;</a:t>
            </a:fld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25D90C7-9C82-4F78-BC5A-9255E2721D11}" type="slidenum">
              <a:t>&lt;#&gt;</a:t>
            </a:fld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BEADE70-3815-4E9B-BE12-87ABB911A8CC}" type="slidenum">
              <a:t>&lt;#&gt;</a:t>
            </a:fld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BB97EE7-DC73-4026-B289-084819C6E8DE}" type="slidenum">
              <a:t>&lt;#&gt;</a:t>
            </a:fld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FC1D3AA-ECC0-462B-91DB-E0C88CFA4864}" type="slidenum">
              <a:t>&lt;#&gt;</a:t>
            </a:fld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E584632-FF1D-438A-AEF7-F2F76ADCE03A}" type="slidenum">
              <a:t>&lt;#&gt;</a:t>
            </a:fld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B23FE8B-63AC-417A-AF07-030528ACF3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A5FC-762C-4F26-A2A3-B97381AB6F9C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BE093B5-1C81-40F0-BE67-1F0E3BD456C3}" type="slidenum">
              <a:t>&lt;#&gt;</a:t>
            </a:fld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3B53B1-E2BC-42E6-8C4B-ED19AE7FF182}" type="slidenum">
              <a:t>&lt;#&gt;</a:t>
            </a:fld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C892D8-3123-448C-A395-88C7541346CA}" type="slidenum">
              <a:t>&lt;#&gt;</a:t>
            </a:fld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B94173-7E40-40E0-9FE1-0A981BB835FD}" type="slidenum">
              <a:t>&lt;#&gt;</a:t>
            </a:fld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3614B3-CAAE-44C3-B2FE-9C6709191926}" type="slidenum">
              <a:t>&lt;#&gt;</a:t>
            </a:fld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A8297F-0168-480F-8CBE-A4FAFE754CE5}" type="slidenum">
              <a:t>&lt;#&gt;</a:t>
            </a:fld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397555-6C1B-49FE-9381-56550D225E8D}" type="slidenum">
              <a:t>&lt;#&gt;</a:t>
            </a:fld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214B39-E0EA-4EC9-BD36-711A89DE0CA3}" type="slidenum">
              <a:t>&lt;#&gt;</a:t>
            </a:fld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318A84-5CD6-45AB-A804-E17840EB79E4}" type="slidenum">
              <a:t>&lt;#&gt;</a:t>
            </a:fld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B7990C-8BB5-48E6-B0BA-94C2A5B05DE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A73C-501F-4313-85A6-6DBC1F89DE33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DC2A90-B3B6-419E-BD6A-A79950B513D0}" type="slidenum">
              <a:t>&lt;#&gt;</a:t>
            </a:fld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00721B-501A-4F5A-A964-A5987A8709E6}" type="slidenum">
              <a:t>&lt;#&gt;</a:t>
            </a:fld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4768ED-2907-4B0E-8B2D-811C386B5A83}" type="slidenum">
              <a:t>&lt;#&gt;</a:t>
            </a:fld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7512EBA-CE96-4F7D-ABFA-EAB283D771EE}" type="slidenum">
              <a:t>&lt;#&gt;</a:t>
            </a:fld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2A00A83-1255-440E-AB9A-221C8D2EBF2A}" type="slidenum">
              <a:t>&lt;#&gt;</a:t>
            </a:fld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E6DFC13-D25F-4574-94F5-FEC294A8842B}" type="slidenum">
              <a:t>&lt;#&gt;</a:t>
            </a:fld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0F04BD2-E43F-48DE-A214-7A5DC28BE3FA}" type="slidenum">
              <a:t>&lt;#&gt;</a:t>
            </a:fld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E885B1F-259A-4088-8211-F25F57023A7A}" type="slidenum">
              <a:t>&lt;#&gt;</a:t>
            </a:fld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41FB283-A3C9-4F1D-AF03-8D2B73E8FFD1}" type="slidenum">
              <a:t>&lt;#&gt;</a:t>
            </a:fld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A067A43-C396-4DCC-B35F-5C1B4DB3B3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F749-551E-4258-8F53-F17223D2D6F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F10B5-AC00-4974-8930-3A349CEDD348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1325491-DB4E-43F0-BA98-34E5F3CB2237}" type="slidenum">
              <a:t>&lt;#&gt;</a:t>
            </a:fld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288CA97-EF99-4F68-B11E-BD2EDE5A1F3F}" type="slidenum">
              <a:t>&lt;#&gt;</a:t>
            </a:fld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7FF9CBC-2771-4D7E-866B-A695FE933A71}" type="slidenum">
              <a:t>&lt;#&gt;</a:t>
            </a:fld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153BF45-CDB6-4B33-8F4F-CB3D51EA894A}" type="slidenum">
              <a:t>&lt;#&gt;</a:t>
            </a:fld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47350F2-6804-4725-9477-20D6BCD184DA}" type="slidenum">
              <a:t>&lt;#&gt;</a:t>
            </a:fld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7AD014D-DE4B-4A28-9082-4D50CC200659}" type="slidenum">
              <a:t>&lt;#&gt;</a:t>
            </a:fld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A7D6DBD-5174-4504-AACB-96F1B9EF2B8D}" type="slidenum">
              <a:t>&lt;#&gt;</a:t>
            </a:fld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E450E04-0AA2-4C48-9263-AE3D070597A0}" type="slidenum">
              <a:t>&lt;#&gt;</a:t>
            </a:fld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45B35B7-4A6A-4275-9379-94CFDCA2EE10}" type="slidenum">
              <a:t>&lt;#&gt;</a:t>
            </a:fld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20B431B-F319-496C-8356-D2A0C6C17B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6564-8FF0-419C-B7A0-2A3C642EFC0F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5DD3D91-5F8C-4141-88B2-6B23B2FD3C6D}" type="slidenum">
              <a:t>&lt;#&gt;</a:t>
            </a:fld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BAEB46B-791E-401D-8202-8520E2796B5F}" type="slidenum">
              <a:t>&lt;#&gt;</a:t>
            </a:fld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54BF20A-3F64-4534-BBDF-6D7A3649A280}" type="slidenum">
              <a:t>&lt;#&gt;</a:t>
            </a:fld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C4762C-20E0-416C-9493-96A8368D28AE}" type="slidenum">
              <a:t>&lt;#&gt;</a:t>
            </a:fld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E5F7BD9-9F68-442A-8757-091826E51FCB}" type="slidenum">
              <a:t>&lt;#&gt;</a:t>
            </a:fld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27B8109-B6F9-49BB-85DF-FF37152D10D7}" type="slidenum">
              <a:t>&lt;#&gt;</a:t>
            </a:fld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2BEB7B1-3721-4600-A5BD-D0DC62A964DD}" type="slidenum">
              <a:t>&lt;#&gt;</a:t>
            </a:fld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E0C74D-34FE-4DA4-8CC6-2067618A0D64}" type="slidenum">
              <a:t>&lt;#&gt;</a:t>
            </a:fld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4CA061-8727-4B35-955F-B412AE8A2A39}" type="slidenum">
              <a:t>&lt;#&gt;</a:t>
            </a:fld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181E7B-D5BF-4707-BAB7-66441E981D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7F03B-18BE-4906-9396-C2FA9435DE00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EB6F92-F45C-442B-A3AA-04237CEE2BE3}" type="slidenum">
              <a:t>&lt;#&gt;</a:t>
            </a:fld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671286-668F-46D1-8D48-39103439C7D8}" type="slidenum">
              <a:t>&lt;#&gt;</a:t>
            </a:fld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D157CA-AE57-4CF0-941A-0E639026F920}" type="slidenum">
              <a:t>&lt;#&gt;</a:t>
            </a:fld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2A4FA7-80AD-4CDF-A9D7-731AA595C11B}" type="slidenum">
              <a:t>&lt;#&gt;</a:t>
            </a:fld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E4FE89-939A-4394-949B-0946F064DF7E}" type="slidenum">
              <a:t>&lt;#&gt;</a:t>
            </a:fld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DB3331-624C-4BC0-A8FE-BA91280170B4}" type="slidenum">
              <a:t>&lt;#&gt;</a:t>
            </a:fld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2734CB-5607-4F57-BD5A-7A98176B0D83}" type="slidenum">
              <a:t>&lt;#&gt;</a:t>
            </a:fld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3E784B-A8FC-478E-A91B-D96B1C713670}" type="slidenum">
              <a:t>&lt;#&gt;</a:t>
            </a:fld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E34BD0-49EF-4BB1-8581-3ADC056DACE3}" type="slidenum">
              <a:t>&lt;#&gt;</a:t>
            </a:fld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8BA7BE6-558A-43B4-B349-36CAEED5C2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D30A-4834-4BD6-9B75-9BD298BE498C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46F441D-959C-423F-AC66-196332329974}" type="slidenum">
              <a:t>&lt;#&gt;</a:t>
            </a:fld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E0DFE64-C0A5-4696-BEA3-3091C5EE754F}" type="slidenum">
              <a:t>&lt;#&gt;</a:t>
            </a:fld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EA3292C-7D69-417A-A066-23A87A48D55E}" type="slidenum">
              <a:t>&lt;#&gt;</a:t>
            </a:fld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2391B1B-9BF3-40AA-BA00-CD94EF0F332E}" type="slidenum">
              <a:t>&lt;#&gt;</a:t>
            </a:fld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0925FA1-C81E-41FB-84E9-274263882048}" type="slidenum">
              <a:t>&lt;#&gt;</a:t>
            </a:fld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01F6CE0-7094-4F99-A502-C58639915A19}" type="slidenum">
              <a:t>&lt;#&gt;</a:t>
            </a:fld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ECE0B11-1B2B-4017-AA86-269D5B21CB6B}" type="slidenum">
              <a:t>&lt;#&gt;</a:t>
            </a:fld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A20F86D-08EC-4B90-92B2-75F3FA0B19D8}" type="slidenum">
              <a:t>&lt;#&gt;</a:t>
            </a:fld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8BE5E1F-3F8A-4F8F-A1AE-9700A00A38AF}" type="slidenum">
              <a:t>&lt;#&gt;</a:t>
            </a:fld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0CC008E-B54F-4843-A2AA-991D055A4B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C667-F2EB-4FDF-AEC2-EA1F0DE6FF43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366035E-2FEF-4092-9AF0-8C7619300D72}" type="slidenum">
              <a:t>&lt;#&gt;</a:t>
            </a:fld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223D996-7C05-4CAD-8045-FD80368D72ED}" type="slidenum">
              <a:t>&lt;#&gt;</a:t>
            </a:fld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95A1BFE-5DE4-4794-BF35-2493109B6615}" type="slidenum">
              <a:t>&lt;#&gt;</a:t>
            </a:fld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DAED09A-DFCF-41E1-A19C-9C666251D8E6}" type="slidenum">
              <a:t>&lt;#&gt;</a:t>
            </a:fld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3E412AB-FF99-4D07-974F-2D2C8FE05E5B}" type="slidenum">
              <a:t>&lt;#&gt;</a:t>
            </a:fld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F696BEA-F325-4578-A77F-F5012889073B}" type="slidenum">
              <a:t>&lt;#&gt;</a:t>
            </a:fld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61CE129-AD7B-4144-845B-37163BF3650F}" type="slidenum">
              <a:t>&lt;#&gt;</a:t>
            </a:fld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E06A7C6-4493-46C3-B44C-FA9B2380BC81}" type="slidenum">
              <a:t>&lt;#&gt;</a:t>
            </a:fld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8CE664B-F8D4-474F-BEE7-A314393C05CA}" type="slidenum">
              <a:t>&lt;#&gt;</a:t>
            </a:fld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CDF852F-0AB1-4EB6-B5E2-41E2526F12B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0A3DD-F2C2-4473-9080-6BEBF349DF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EDAF21A-6532-453D-AE2A-26B587513243}" type="slidenum">
              <a:t>&lt;#&gt;</a:t>
            </a:fld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3C14C27-0BAD-4B08-88D9-5ED666BC7977}" type="slidenum">
              <a:t>&lt;#&gt;</a:t>
            </a:fld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7645029-1ED5-4E04-A04B-79E6C2CD78BC}" type="slidenum">
              <a:t>&lt;#&gt;</a:t>
            </a:fld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C5BAA7-CEB6-4F66-AB05-E803A7CE3DEF}" type="slidenum">
              <a:t>&lt;#&gt;</a:t>
            </a:fld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2C902B-D0AE-4EA8-9C8B-37D03AB4D639}" type="slidenum">
              <a:t>&lt;#&gt;</a:t>
            </a:fld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500174-2779-4BDA-BE98-DF4FF89A9517}" type="slidenum">
              <a:t>&lt;#&gt;</a:t>
            </a:fld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6B78AB-74F4-41E5-9CA2-C47372A7332D}" type="slidenum">
              <a:t>&lt;#&gt;</a:t>
            </a:fld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5F3A40-B69B-47E9-8D04-F90B210F524D}" type="slidenum">
              <a:t>&lt;#&gt;</a:t>
            </a:fld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EB58CC-3E02-479E-BB34-BCF0EDC355B3}" type="slidenum">
              <a:t>&lt;#&gt;</a:t>
            </a:fld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7F89EA-E39E-4ABA-BB8B-B2ED42A09E5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85DEC-2868-4CC7-8422-9480A2E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E22495-7F0C-4A73-899D-F3F35F7DA73A}" type="slidenum">
              <a:t>&lt;#&gt;</a:t>
            </a:fld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CCA504-0E55-4415-B219-B245F08C56C3}" type="slidenum">
              <a:t>&lt;#&gt;</a:t>
            </a:fld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F1E7DD-979B-4B03-8E05-95DA9209782A}" type="slidenum">
              <a:t>&lt;#&gt;</a:t>
            </a:fld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97A83F-C49A-4EB0-AD1F-BB0F6FCB86B9}" type="slidenum">
              <a:t>&lt;#&gt;</a:t>
            </a:fld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8E2AF6-D6AD-4D82-9798-7CC652D18A39}" type="slidenum">
              <a:t>&lt;#&gt;</a:t>
            </a:fld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A7DE98E-7936-49F3-BBA2-697AC6993931}" type="slidenum">
              <a:t>&lt;#&gt;</a:t>
            </a:fld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9A48EC9-3138-48A6-B90A-810035538D97}" type="slidenum">
              <a:t>&lt;#&gt;</a:t>
            </a:fld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CAAA109-940A-4CCF-9196-7BF974994A2E}" type="slidenum">
              <a:t>&lt;#&gt;</a:t>
            </a:fld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E8BD908-25E0-4B18-A757-A949F953E063}" type="slidenum">
              <a:t>&lt;#&gt;</a:t>
            </a:fld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A9CB0CC-0372-4312-B4F3-97F1CFB1B0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B8C79-71A0-445E-BC97-73828B3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F71A06D-EF0A-4E22-B975-413EA880DF22}" type="slidenum">
              <a:t>&lt;#&gt;</a:t>
            </a:fld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C7DB641-8393-428F-96D5-C7F9218B8126}" type="slidenum">
              <a:t>&lt;#&gt;</a:t>
            </a:fld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5199814-C935-4649-A39A-3FEFF2D386EE}" type="slidenum">
              <a:t>&lt;#&gt;</a:t>
            </a:fld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F934A96-F41E-43AA-A39F-E2FB10488D30}" type="slidenum">
              <a:t>&lt;#&gt;</a:t>
            </a:fld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969D416-1744-46BF-8028-D8069C44E933}" type="slidenum">
              <a:t>&lt;#&gt;</a:t>
            </a:fld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E27C809-CBBA-4426-B449-4F6548591167}" type="slidenum">
              <a:t>&lt;#&gt;</a:t>
            </a:fld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C28ED55-D7A7-4327-B948-379158080BCB}" type="slidenum">
              <a:t>&lt;#&gt;</a:t>
            </a:fld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EA6AFD6-C216-431B-9576-993BD54333E9}" type="slidenum">
              <a:t>&lt;#&gt;</a:t>
            </a:fld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8288A3D-D1BA-4B9A-9F44-E0B0ACD038DB}" type="slidenum">
              <a:t>&lt;#&gt;</a:t>
            </a:fld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4623DA4-3C7A-4600-9360-84E49B6248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3BEC5-CB91-46E8-9B58-45A3B331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C06EFCE-AACC-4C5F-B3F3-E43800438068}" type="slidenum">
              <a:t>&lt;#&gt;</a:t>
            </a:fld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44719D4-6ADC-43A2-BF15-3E2556709240}" type="slidenum">
              <a:t>&lt;#&gt;</a:t>
            </a:fld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77B99EA-6BB7-4ABB-AACD-C3AA0444EC16}" type="slidenum">
              <a:t>&lt;#&gt;</a:t>
            </a:fld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226E35B-1411-4BEB-B5CA-E4210AE6DFE2}" type="slidenum">
              <a:t>&lt;#&gt;</a:t>
            </a:fld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F035139-BA0A-44C1-BCE6-8CA091C7CD1E}" type="slidenum">
              <a:t>&lt;#&gt;</a:t>
            </a:fld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4220459-498E-4D4C-9F18-96858FD89AC4}" type="slidenum">
              <a:t>&lt;#&gt;</a:t>
            </a:fld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DCDCA19-54E1-4E7E-AF70-639FD353C5EF}" type="slidenum">
              <a:t>&lt;#&gt;</a:t>
            </a:fld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E367A78-DCC2-4A8C-9351-5CACAB713721}" type="slidenum">
              <a:t>&lt;#&gt;</a:t>
            </a:fld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2FD8650-70E7-499A-BC5B-BFBA2FE0C25D}" type="slidenum">
              <a:t>&lt;#&gt;</a:t>
            </a:fld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01A718-1AF9-41CA-81CF-361D799B0DD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2AE16-F44D-4EB5-9F20-2B592AC5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0991E2-88BC-4345-BE88-FAA080173060}" type="slidenum">
              <a:t>&lt;#&gt;</a:t>
            </a:fld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BDDDE4-3411-47DA-AF1F-4ECD7E7DE581}" type="slidenum">
              <a:t>&lt;#&gt;</a:t>
            </a:fld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B78F03-915D-40A6-89AF-DB723100FAA8}" type="slidenum">
              <a:t>&lt;#&gt;</a:t>
            </a:fld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1E7C88-7466-4AF4-93C8-7FF00FF3A599}" type="slidenum">
              <a:t>&lt;#&gt;</a:t>
            </a:fld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0C9F70-5C3D-4B80-B38B-E5E8E43221A3}" type="slidenum">
              <a:t>&lt;#&gt;</a:t>
            </a:fld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75DA45-0158-46DB-BE5B-AEF2C8EDBF87}" type="slidenum">
              <a:t>&lt;#&gt;</a:t>
            </a:fld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D27F11-C683-42D0-BD29-8B0289913BAB}" type="slidenum">
              <a:t>&lt;#&gt;</a:t>
            </a:fld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C863F3-B726-4660-9D9D-203194E27620}" type="slidenum">
              <a:t>&lt;#&gt;</a:t>
            </a:fld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EE14B9-68DC-445A-A0A6-DD51EA30F186}" type="slidenum">
              <a:t>&lt;#&gt;</a:t>
            </a:fld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AC39BA-B34F-4574-BE18-EACD8C6274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EAD3-90C5-488A-817C-DB2DDFABC7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8DAA0-26A7-4EAC-8279-08582B4A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0FD165-8C54-47FD-93C8-AE59BB9A31A6}" type="slidenum">
              <a:t>&lt;#&gt;</a:t>
            </a:fld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2B8EE6E-2CDB-4CDC-AFF9-44BDCB4254D8}" type="slidenum">
              <a:t>&lt;#&gt;</a:t>
            </a:fld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C9DF58A-D55F-4701-AC1C-487DFDFB64C5}" type="slidenum">
              <a:t>&lt;#&gt;</a:t>
            </a:fld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7BEC8AF-1144-4F51-8B67-DB5590F0029E}" type="slidenum">
              <a:t>&lt;#&gt;</a:t>
            </a:fld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80EA4F4-FE64-444C-A0F5-D086ABF5E605}" type="slidenum">
              <a:t>&lt;#&gt;</a:t>
            </a:fld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DDBF5AE-379B-43DD-B5D3-0D197D8ACDFF}" type="slidenum">
              <a:t>&lt;#&gt;</a:t>
            </a:fld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593CBA7-9E63-431D-B73C-225D715C2F9E}" type="slidenum">
              <a:t>&lt;#&gt;</a:t>
            </a:fld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78C7592-D9FF-4FB0-A821-31D4B4056E90}" type="slidenum">
              <a:t>&lt;#&gt;</a:t>
            </a:fld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1244F14-3F76-4513-90BC-59E5E45E0A64}" type="slidenum">
              <a:t>&lt;#&gt;</a:t>
            </a:fld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04E2760-F2BC-448F-A3A2-A08094FE5C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88684-A68A-49CD-9136-085060D2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FE5151E-B40B-4C67-95B2-54837BBBC7BA}" type="slidenum">
              <a:t>&lt;#&gt;</a:t>
            </a:fld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C9B6A1A-8265-428B-B313-1F126F97A96E}" type="slidenum">
              <a:t>&lt;#&gt;</a:t>
            </a:fld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F798F0F-57C5-4445-A933-83E65A9BBA2E}" type="slidenum">
              <a:t>&lt;#&gt;</a:t>
            </a:fld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29F9E71-B2BA-4AB8-A055-248A67428C67}" type="slidenum">
              <a:t>&lt;#&gt;</a:t>
            </a:fld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FCB48F2-2406-497E-86D7-4787AD3878ED}" type="slidenum">
              <a:t>&lt;#&gt;</a:t>
            </a:fld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3555E33-E29E-4737-A5F0-95CD0EE92857}" type="slidenum">
              <a:t>&lt;#&gt;</a:t>
            </a:fld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02F7E81-2B63-4E2A-A00D-98A2B2D9CFC0}" type="slidenum">
              <a:t>&lt;#&gt;</a:t>
            </a:fld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335C0E6-8BD2-4037-B63A-A1D2F593F6C9}" type="slidenum">
              <a:t>&lt;#&gt;</a:t>
            </a:fld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8E5EDAC-AEF7-4224-8C79-907506F35CDE}" type="slidenum">
              <a:t>&lt;#&gt;</a:t>
            </a:fld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DBCEA3A-96A1-4115-9F66-7C234ABECF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1F140-401C-417D-9879-BC906CF4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D92B39F-A32F-4449-8E98-842AEA891F69}" type="slidenum">
              <a:t>&lt;#&gt;</a:t>
            </a:fld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9A4DD40-864E-4F97-99FC-923A17469949}" type="slidenum">
              <a:t>&lt;#&gt;</a:t>
            </a:fld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02C2793-2EF2-4EA4-A733-338796FFF3FB}" type="slidenum">
              <a:t>&lt;#&gt;</a:t>
            </a:fld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BCAE873-7BD1-4087-83B8-5F49FA6329F2}" type="slidenum">
              <a:t>&lt;#&gt;</a:t>
            </a:fld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83C5113-6D73-4F84-A925-67EC331462AC}" type="slidenum">
              <a:t>&lt;#&gt;</a:t>
            </a:fld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7AE9AE-014F-457E-A7B7-6A3AF03FA792}" type="slidenum">
              <a:t>&lt;#&gt;</a:t>
            </a:fld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F1C11E-66EE-4994-BDDE-11CFDB2A8E78}" type="slidenum">
              <a:t>&lt;#&gt;</a:t>
            </a:fld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3A0B75-7535-4D90-A1A9-30C343F42BBA}" type="slidenum">
              <a:t>&lt;#&gt;</a:t>
            </a:fld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0C8AAE2-566B-428D-89A9-E2082343D8EC}" type="slidenum">
              <a:t>&lt;#&gt;</a:t>
            </a:fld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142DDB-FD6A-4FAD-BECB-93F92D6E5A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C970A-4FC9-4864-82D6-324A143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BD8E22-1A0E-46AF-8293-EBE24444765A}" type="slidenum">
              <a:t>&lt;#&gt;</a:t>
            </a:fld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19B9DD-69BE-4EEF-B8E7-27735FF56714}" type="slidenum">
              <a:t>&lt;#&gt;</a:t>
            </a:fld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EF8205-3CE1-405B-99BA-C26C33585144}" type="slidenum">
              <a:t>&lt;#&gt;</a:t>
            </a:fld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AAE803-5AA4-4AC0-A2A4-78DA9C7E82D9}" type="slidenum">
              <a:t>&lt;#&gt;</a:t>
            </a:fld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C8F977-AFD6-47A3-8118-5DFB7FED2FB8}" type="slidenum">
              <a:t>&lt;#&gt;</a:t>
            </a:fld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441A8D-F04A-4AF5-832D-1872C2752F2E}" type="slidenum">
              <a:t>&lt;#&gt;</a:t>
            </a:fld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4E6C26-0DC8-4F66-80F5-13B5C6F097E7}" type="slidenum">
              <a:t>&lt;#&gt;</a:t>
            </a:fld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D3C9EB4-7C18-4271-8DAA-A5827E158CD7}" type="slidenum">
              <a:t>&lt;#&gt;</a:t>
            </a:fld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1B62A30-D3F8-46A1-864E-42AE59CEA65A}" type="slidenum">
              <a:t>&lt;#&gt;</a:t>
            </a:fld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35CE93-D409-4AE8-AEA2-2ABBE24E68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EB311-1502-4BFC-AAE8-8BC9B453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EEC243E-A2F1-4962-BA51-19F0E461A1DD}" type="slidenum">
              <a:t>&lt;#&gt;</a:t>
            </a:fld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3FEC29A-222D-49A0-B94F-8BB77B11398F}" type="slidenum">
              <a:t>&lt;#&gt;</a:t>
            </a:fld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ACAA849-5448-49B1-882E-C20F1D288B07}" type="slidenum">
              <a:t>&lt;#&gt;</a:t>
            </a:fld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D006170-79B5-44BA-8014-3BEC74F68018}" type="slidenum">
              <a:t>&lt;#&gt;</a:t>
            </a:fld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6047745-112D-4C53-B6E0-AC556170430D}" type="slidenum">
              <a:t>&lt;#&gt;</a:t>
            </a:fld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2E16D04-36E4-4570-AD79-CB0DA323B37E}" type="slidenum">
              <a:t>&lt;#&gt;</a:t>
            </a:fld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2CB5895-992A-41F4-82FC-86C61C22F60E}" type="slidenum">
              <a:t>&lt;#&gt;</a:t>
            </a:fld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4F68D85-C036-420A-A2E5-76DCBA10F5E4}" type="slidenum">
              <a:t>&lt;#&gt;</a:t>
            </a:fld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F422649-F4AC-4328-BBF0-AA3898A7DB03}" type="slidenum">
              <a:t>&lt;#&gt;</a:t>
            </a:fld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455DECB-A363-4092-8D3A-92E4595CF7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44871-B48A-43E2-BB99-BCA7850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2514CD9-7A5F-479E-A956-0B4C055E1690}" type="slidenum">
              <a:t>&lt;#&gt;</a:t>
            </a:fld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D73E46E-6B21-4CC5-A68C-80F0F0E50922}" type="slidenum">
              <a:t>&lt;#&gt;</a:t>
            </a:fld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06DDC5A-FD1A-4D44-91EC-CAF33E4F2A1D}" type="slidenum">
              <a:t>&lt;#&gt;</a:t>
            </a:fld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FA0F5E2-6326-4A0C-BB7A-54B216477F76}" type="slidenum">
              <a:t>&lt;#&gt;</a:t>
            </a:fld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ED51269-C315-473E-B8FF-101B5B837534}" type="slidenum">
              <a:t>&lt;#&gt;</a:t>
            </a:fld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7ECC566-D2F0-422C-925D-DD44FBE2C8F1}" type="slidenum">
              <a:t>&lt;#&gt;</a:t>
            </a:fld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FAF56B2-0EAD-4236-AFDE-96D3C2826D1D}" type="slidenum">
              <a:t>&lt;#&gt;</a:t>
            </a:fld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A4AD810-E1A9-49B4-9D4D-464FAAED493F}" type="slidenum">
              <a:t>&lt;#&gt;</a:t>
            </a:fld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6EDCF90-C7A4-4C02-8913-4229183CDFC5}" type="slidenum">
              <a:t>&lt;#&gt;</a:t>
            </a:fld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F774C39-0040-4E6C-BEA7-A383DFE40D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FF6D9-511E-472A-AB4C-5756A3411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2B5A5C8-608A-461C-A836-0E98AAC65CB2}" type="slidenum">
              <a:t>&lt;#&gt;</a:t>
            </a:fld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D2F25B-73E4-48A2-967D-F693ADDFD558}" type="slidenum">
              <a:t>&lt;#&gt;</a:t>
            </a:fld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11C2E7-742C-4190-81EE-B0581C09B75A}" type="slidenum">
              <a:t>&lt;#&gt;</a:t>
            </a:fld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EC0CF5-53B3-445D-A290-D3F3FB69BBC1}" type="slidenum">
              <a:t>&lt;#&gt;</a:t>
            </a:fld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76100D-750B-4230-9DF2-02AF22BBA487}" type="slidenum">
              <a:t>&lt;#&gt;</a:t>
            </a:fld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F1F813-0FA9-444C-B551-B4A3B4B8E181}" type="slidenum">
              <a:t>&lt;#&gt;</a:t>
            </a:fld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B0BF47-593C-4B68-B0F1-BD4D34405804}" type="slidenum">
              <a:t>&lt;#&gt;</a:t>
            </a:fld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20FF0B-C1B6-45CF-A316-A9AF8D6E6E25}" type="slidenum">
              <a:t>&lt;#&gt;</a:t>
            </a:fld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903695-B7BD-4914-BAA4-B0BFAFB32FA9}" type="slidenum">
              <a:t>&lt;#&gt;</a:t>
            </a:fld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83CA51-8C52-4FEA-AF97-2B32B53A5C2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90F3-77C4-4E9C-9301-E0F3AB80AA35}" type="slidenum">
              <a:t>&lt;#&gt;</a:t>
            </a:fld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E481CA-16FF-4315-83B4-B5DD36B9DAED}" type="slidenum">
              <a:t>&lt;#&gt;</a:t>
            </a:fld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0F38B7-0A82-4D86-97B4-0D9F6638B2D0}" type="slidenum">
              <a:t>&lt;#&gt;</a:t>
            </a:fld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9B6A83-2A95-4666-AF78-6B11CAB92EBD}" type="slidenum">
              <a:t>&lt;#&gt;</a:t>
            </a:fld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BE78961-E1B2-47A9-8E65-AD18EFDD766F}" type="slidenum">
              <a:t>&lt;#&gt;</a:t>
            </a:fld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BAAF640-E386-47D9-B168-4E02A08FC80B}" type="slidenum">
              <a:t>&lt;#&gt;</a:t>
            </a:fld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B075C53-F797-4CA9-91D9-D0D106E5424E}" type="slidenum">
              <a:t>&lt;#&gt;</a:t>
            </a:fld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7FB0744-3656-43F2-BE9C-C40EF2D804A3}" type="slidenum">
              <a:t>&lt;#&gt;</a:t>
            </a:fld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9094DE7-78F1-43AA-A7BF-F700FE0AD478}" type="slidenum">
              <a:t>&lt;#&gt;</a:t>
            </a:fld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BC60636-D7C3-4BE6-A4CC-8DC661ED73D9}" type="slidenum">
              <a:t>&lt;#&gt;</a:t>
            </a:fld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9D165C2-DF0B-41E6-BD50-1BA3B458BFA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A30D-7582-463F-97E3-D08CEB79248C}" type="slidenum">
              <a:t>&lt;#&gt;</a:t>
            </a:fld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F5A659F-8586-4287-8A70-81A7B2DBA334}" type="slidenum">
              <a:t>&lt;#&gt;</a:t>
            </a:fld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A5C99EB-47E8-4FD6-BB3E-4C6146F0CB9B}" type="slidenum">
              <a:t>&lt;#&gt;</a:t>
            </a:fld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9586789-7FD9-40F1-9F45-CBDC03AB1FBC}" type="slidenum">
              <a:t>&lt;#&gt;</a:t>
            </a:fld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0AB7BB0-8D9E-4B0E-B852-A1B63AD529EA}" type="slidenum">
              <a:t>&lt;#&gt;</a:t>
            </a:fld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16FE178-83AD-4980-A5DD-68A92BF904BC}" type="slidenum">
              <a:t>&lt;#&gt;</a:t>
            </a:fld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1B6678B-2CAE-417F-BD32-A11428B15C2E}" type="slidenum">
              <a:t>&lt;#&gt;</a:t>
            </a:fld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54F8F6C-90BE-4329-818E-ABA75B0BC9FF}" type="slidenum">
              <a:t>&lt;#&gt;</a:t>
            </a:fld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390ADDA-DC51-4751-90D4-DE91B0E49CF1}" type="slidenum">
              <a:t>&lt;#&gt;</a:t>
            </a:fld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885C1B-D3DE-4050-8F0F-CB85E4A65614}" type="slidenum">
              <a:t>&lt;#&gt;</a:t>
            </a:fld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B148EB0-9F0E-4263-8E84-F9CE4DF783E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50AB-A7D4-4036-B0B8-E84967965321}" type="slidenum">
              <a:t>&lt;#&gt;</a:t>
            </a:fld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78000CE-1F13-4202-9F80-F1CA91CAEBAF}" type="slidenum">
              <a:t>&lt;#&gt;</a:t>
            </a:fld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361B6D4-EEA4-4B93-BA3F-5FE3A36257F1}" type="slidenum">
              <a:t>&lt;#&gt;</a:t>
            </a:fld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CB827F6-555B-4C50-9E82-40444F85F00F}" type="slidenum">
              <a:t>&lt;#&gt;</a:t>
            </a:fld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C22BA7D-F28F-4AEC-9B86-31301FB63213}" type="slidenum">
              <a:t>&lt;#&gt;</a:t>
            </a:fld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934BE91-921E-4749-A558-B3F15D426A63}" type="slidenum">
              <a:t>&lt;#&gt;</a:t>
            </a:fld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86087D7-11E3-429B-9DC4-1224429BDAA5}" type="slidenum">
              <a:t>&lt;#&gt;</a:t>
            </a:fld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DF6856B-F9B3-47DE-A54C-B167CCADC2D4}" type="slidenum">
              <a:t>&lt;#&gt;</a:t>
            </a:fld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1C1A40-A169-4294-8519-5A5F678D406C}" type="slidenum">
              <a:t>&lt;#&gt;</a:t>
            </a:fld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EC0745-5BDD-41F0-B9B4-C56E7013D92B}" type="slidenum">
              <a:t>&lt;#&gt;</a:t>
            </a:fld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F7F75F-92B9-4861-A470-1CA40556D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50B7-F80E-4ECB-88FB-A9F4EA30578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FE99-27F1-42B1-B6A6-291DCFC059CD}" type="slidenum">
              <a:t>&lt;#&gt;</a:t>
            </a:fld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EEC195-C4DE-46DF-A0F1-E06A1C07DA19}" type="slidenum">
              <a:t>&lt;#&gt;</a:t>
            </a:fld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D3863A-D7BC-4E29-BB67-4058983021BA}" type="slidenum">
              <a:t>&lt;#&gt;</a:t>
            </a:fld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F0E4C3-FAE5-4815-8312-72AB7A749CD8}" type="slidenum">
              <a:t>&lt;#&gt;</a:t>
            </a:fld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7692D9-1D45-4EA1-A4CF-3ECBE4974F4D}" type="slidenum">
              <a:t>&lt;#&gt;</a:t>
            </a:fld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392E10-6EC9-464F-87F9-659FBC46BA41}" type="slidenum">
              <a:t>&lt;#&gt;</a:t>
            </a:fld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2293CC-52DF-4D83-8DE6-AE5C52D32F99}" type="slidenum">
              <a:t>&lt;#&gt;</a:t>
            </a:fld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FC99EC-27C4-4303-9170-512B0E109EF5}" type="slidenum">
              <a:t>&lt;#&gt;</a:t>
            </a:fld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044A6D-708C-4198-98F4-E708978981F9}" type="slidenum">
              <a:t>&lt;#&gt;</a:t>
            </a:fld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B4BFA4-3891-418A-8096-7CAC194AED4B}" type="slidenum">
              <a:t>&lt;#&gt;</a:t>
            </a:fld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B7276FA-C229-48CE-8D25-EAA9ED633AB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2306-CD0B-4807-A6B6-77B0ACD1CC30}" type="slidenum">
              <a:t>&lt;#&gt;</a:t>
            </a:fld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1F0D119-A5D2-4AD4-8F10-E287A72BB389}" type="slidenum">
              <a:t>&lt;#&gt;</a:t>
            </a:fld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DA1B6F3-C9EC-42DC-A475-5C986CEDCF35}" type="slidenum">
              <a:t>&lt;#&gt;</a:t>
            </a:fld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ED13AFB-55C6-4F22-99D2-BCFEEFF14A85}" type="slidenum">
              <a:t>&lt;#&gt;</a:t>
            </a:fld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8D4C733-E0A8-4A40-A040-83BB8634E6C9}" type="slidenum">
              <a:t>&lt;#&gt;</a:t>
            </a:fld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9F70D37-B4D4-4B47-91E7-120BD71FF21C}" type="slidenum">
              <a:t>&lt;#&gt;</a:t>
            </a:fld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C352FA2-1754-437A-B61A-D79C08291845}" type="slidenum">
              <a:t>&lt;#&gt;</a:t>
            </a:fld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B2CA61C-EE3F-453D-BAD5-0D9C27852893}" type="slidenum">
              <a:t>&lt;#&gt;</a:t>
            </a:fld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5616061-F143-4A75-923B-4A2B67A867BD}" type="slidenum">
              <a:t>&lt;#&gt;</a:t>
            </a:fld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EE8FE98-84E0-4A92-BAB0-228FD1D8BF7F}" type="slidenum">
              <a:t>&lt;#&gt;</a:t>
            </a:fld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907C01B-C161-4D3E-B809-E502C2B4721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BD44D-B5F6-4176-B920-FF11339EC76E}" type="slidenum">
              <a:t>&lt;#&gt;</a:t>
            </a:fld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218C71E-4DC8-4628-A160-EBF0AAEB04B6}" type="slidenum">
              <a:t>&lt;#&gt;</a:t>
            </a:fld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66885A5-AD9C-4917-BFDF-AA961F7690D4}" type="slidenum">
              <a:t>&lt;#&gt;</a:t>
            </a:fld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888421B-7F20-435B-8C3C-C4EFBB900228}" type="slidenum">
              <a:t>&lt;#&gt;</a:t>
            </a:fld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EAA8D2E-85FD-450A-9C41-6439BDAB715C}" type="slidenum">
              <a:t>&lt;#&gt;</a:t>
            </a:fld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CF9F9DB-3693-4432-89B2-67FFAB0F240C}" type="slidenum">
              <a:t>&lt;#&gt;</a:t>
            </a:fld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04D0B6E-160E-4323-B816-64C73AAF7650}" type="slidenum">
              <a:t>&lt;#&gt;</a:t>
            </a:fld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5ED7EB0-103E-401E-A1CC-B678EDD6FE92}" type="slidenum">
              <a:t>&lt;#&gt;</a:t>
            </a:fld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3F0450C-4D25-401D-B12C-9650B79DC7A3}" type="slidenum">
              <a:t>&lt;#&gt;</a:t>
            </a:fld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26365F9-5542-46DD-8A98-081C1105ECA2}" type="slidenum">
              <a:t>&lt;#&gt;</a:t>
            </a:fld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FE5BA08-2292-47C7-B532-568AD3DD39E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FC1B-5523-4B2B-B086-04EA8627EDDE}" type="slidenum">
              <a:t>&lt;#&gt;</a:t>
            </a:fld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6468072-E6AB-408D-BF62-A991B0BCDA4C}" type="slidenum">
              <a:t>&lt;#&gt;</a:t>
            </a:fld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B69992A-0B19-42E3-A780-DF29EFFA36AD}" type="slidenum">
              <a:t>&lt;#&gt;</a:t>
            </a:fld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5C8BF5B-0AE7-44D7-A67C-F48292603CFB}" type="slidenum">
              <a:t>&lt;#&gt;</a:t>
            </a:fld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A49AFE-D96E-450B-9F88-B3BC20E8BBF8}" type="slidenum">
              <a:t>&lt;#&gt;</a:t>
            </a:fld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49B6415-030D-4CAD-9ED1-C466D2F53808}" type="slidenum">
              <a:t>&lt;#&gt;</a:t>
            </a:fld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13D6D2-01A9-4BD4-A5AF-A1F81CC6B717}" type="slidenum">
              <a:t>&lt;#&gt;</a:t>
            </a:fld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8D73F4-DC26-498D-B640-A5EA232DEF4F}" type="slidenum">
              <a:t>&lt;#&gt;</a:t>
            </a:fld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6614B8-CB5A-41D7-84E7-7CF89B6355C8}" type="slidenum">
              <a:t>&lt;#&gt;</a:t>
            </a:fld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68F94E-DE75-4190-8F4D-98374ADE239F}" type="slidenum">
              <a:t>&lt;#&gt;</a:t>
            </a:fld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4468723-01A2-4732-B850-1A63E10C84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18C8-4AEB-4B53-962B-9AB361AB9604}" type="slidenum">
              <a:t>&lt;#&gt;</a:t>
            </a:fld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49AE53B-A64E-4955-92E7-0AF608F57D93}" type="slidenum">
              <a:t>&lt;#&gt;</a:t>
            </a:fld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FCC1BB-9DDB-4945-8721-FF2ABA4EDE11}" type="slidenum">
              <a:t>&lt;#&gt;</a:t>
            </a:fld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B2C79D-532B-4458-BDF5-BFBEF5FBEC52}" type="slidenum">
              <a:t>&lt;#&gt;</a:t>
            </a:fld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AF4A40-9B2F-4DD1-BF12-4A2814E5591E}" type="slidenum">
              <a:t>&lt;#&gt;</a:t>
            </a:fld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84036B-4A23-4CC0-A6CC-BDBF296FF307}" type="slidenum">
              <a:t>&lt;#&gt;</a:t>
            </a:fld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5EF01BF-9EE5-4C48-8ACE-58B538F7F7CB}" type="slidenum">
              <a:t>&lt;#&gt;</a:t>
            </a:fld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26FACB6-2D80-4FFA-BDBF-47FBE6032B39}" type="slidenum">
              <a:t>&lt;#&gt;</a:t>
            </a:fld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9FC785B-1924-410E-85FB-B463F58B2695}" type="slidenum">
              <a:t>&lt;#&gt;</a:t>
            </a:fld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02895D1-D48C-40B8-AA7D-0CF0C7568381}" type="slidenum">
              <a:t>&lt;#&gt;</a:t>
            </a:fld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4267440-31E0-4206-95CC-B47DC723E80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5677-AF03-41FD-9C7E-04033568A240}" type="slidenum">
              <a:t>&lt;#&gt;</a:t>
            </a:fld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442B8F0-3224-42BE-BB9B-79F813EF7B02}" type="slidenum">
              <a:t>&lt;#&gt;</a:t>
            </a:fld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F0B6CE3-3E6A-4F35-8AEE-BA55F56B521E}" type="slidenum">
              <a:t>&lt;#&gt;</a:t>
            </a:fld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626A6D2-D27B-48D0-817D-40DCC4033305}" type="slidenum">
              <a:t>&lt;#&gt;</a:t>
            </a:fld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E342244-EE73-4A2B-AC77-5E7D9E74B0D2}" type="slidenum">
              <a:t>&lt;#&gt;</a:t>
            </a:fld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F1F8402-2BD7-499D-9A92-9CB89E6C74F5}" type="slidenum">
              <a:t>&lt;#&gt;</a:t>
            </a:fld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3E9F831-49A1-4CB4-A778-5073F973B6CF}" type="slidenum">
              <a:t>&lt;#&gt;</a:t>
            </a:fld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B7AB8F3-E3F0-458E-A2E1-419D5FB67FC1}" type="slidenum">
              <a:t>&lt;#&gt;</a:t>
            </a:fld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A439C59-12E4-422A-ADD0-A246CE8B7ED3}" type="slidenum">
              <a:t>&lt;#&gt;</a:t>
            </a:fld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809E837-B5E7-4F11-9523-23664E02153E}" type="slidenum">
              <a:t>&lt;#&gt;</a:t>
            </a:fld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ED3E19E-C0FE-4696-95D1-5A4BDC44326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F1B56-60D2-499D-AC93-ED59F6FA94C4}" type="slidenum">
              <a:t>&lt;#&gt;</a:t>
            </a:fld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59FBE12-50EB-4DEB-A8B9-DF5A2B031D4F}" type="slidenum">
              <a:t>&lt;#&gt;</a:t>
            </a:fld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568BC9A-92BF-4CA9-BE42-03FFBD9C6AE3}" type="slidenum">
              <a:t>&lt;#&gt;</a:t>
            </a:fld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6BA7172-22CE-4EF1-A82E-516F40356BC8}" type="slidenum">
              <a:t>&lt;#&gt;</a:t>
            </a:fld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5E327E0-6660-4C84-9CD4-4A066EC6ACD2}" type="slidenum">
              <a:t>&lt;#&gt;</a:t>
            </a:fld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E565402-68A1-4F46-92D6-7621E79B10A4}" type="slidenum">
              <a:t>&lt;#&gt;</a:t>
            </a:fld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7AE6896-701F-4759-9CE8-7CFE1A9B69C5}" type="slidenum">
              <a:t>&lt;#&gt;</a:t>
            </a:fld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E056220-57C1-41A4-B2FC-D6E7DFCD9E90}" type="slidenum">
              <a:t>&lt;#&gt;</a:t>
            </a:fld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E4D2684-4CD3-43CF-ACB8-57FF3C34EED0}" type="slidenum">
              <a:t>&lt;#&gt;</a:t>
            </a:fld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C692122-1515-4D8D-915C-1D6E8CDDEA0D}" type="slidenum">
              <a:t>&lt;#&gt;</a:t>
            </a:fld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7E6878-9CB1-4F53-9D4A-C9DAD6A7EB3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8CF5-3E2F-478E-9A8D-0D0BAD38264A}" type="slidenum">
              <a:t>&lt;#&gt;</a:t>
            </a:fld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A55791-B5EF-4C40-9EA1-D9F11AA031E1}" type="slidenum">
              <a:t>&lt;#&gt;</a:t>
            </a:fld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B7DDA8-78EE-4174-8D2E-B168B38A6CE7}" type="slidenum">
              <a:t>&lt;#&gt;</a:t>
            </a:fld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122859-8789-4AA6-9D1B-CB9EE3E96260}" type="slidenum">
              <a:t>&lt;#&gt;</a:t>
            </a:fld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BC6AE4-D878-4A06-9E32-764C7B41350E}" type="slidenum">
              <a:t>&lt;#&gt;</a:t>
            </a:fld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EE7AE34-9776-4435-8134-EE86EF9A64C3}" type="slidenum">
              <a:t>&lt;#&gt;</a:t>
            </a:fld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39C22E-E7C2-44C8-91D8-6E4CA9AE8179}" type="slidenum">
              <a:t>&lt;#&gt;</a:t>
            </a:fld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E0313C-C00F-45A7-AA33-5176B0888795}" type="slidenum">
              <a:t>&lt;#&gt;</a:t>
            </a:fld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84E1DCB-BAA0-4C96-B05A-224882952EF6}" type="slidenum">
              <a:t>&lt;#&gt;</a:t>
            </a:fld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9FC3BDC-0E39-4292-8BA6-6B7F5EC57CA2}" type="slidenum">
              <a:t>&lt;#&gt;</a:t>
            </a:fld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85F54F-11DA-4E66-9028-23B7FE7BA0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14D9-A8AF-4F62-9857-C2D756C1F9C3}" type="slidenum">
              <a:t>&lt;#&gt;</a:t>
            </a:fld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B408E3-A143-4AFD-B5DE-998192F72891}" type="slidenum">
              <a:t>&lt;#&gt;</a:t>
            </a:fld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035208-2D06-47D3-BEE5-7C4CB7E0003A}" type="slidenum">
              <a:t>&lt;#&gt;</a:t>
            </a:fld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647EA7A-7DDD-4210-89B9-F79276B98AD3}" type="slidenum">
              <a:t>&lt;#&gt;</a:t>
            </a:fld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F95060B-E90A-4CFB-9584-B2E1295EC59B}" type="slidenum">
              <a:t>&lt;#&gt;</a:t>
            </a:fld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397F3E7-AE3D-42F1-9B4B-0457B368DF52}" type="slidenum">
              <a:t>&lt;#&gt;</a:t>
            </a:fld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6BE49B0-48BE-4FDE-BAF1-0D9664115D3B}" type="slidenum">
              <a:t>&lt;#&gt;</a:t>
            </a:fld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9E480BB-0AC1-45A1-8C83-354B811D7693}" type="slidenum">
              <a:t>&lt;#&gt;</a:t>
            </a:fld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7961269-F27F-4EB3-9FA2-1ADB7B3B92F2}" type="slidenum">
              <a:t>&lt;#&gt;</a:t>
            </a:fld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FCF1EAA-991F-49AD-84A2-76CE4B414E3E}" type="slidenum">
              <a:t>&lt;#&gt;</a:t>
            </a:fld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7C5929A-6482-4590-9B76-5FFF268626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13384-F0D0-42FE-85B2-F99BE54B5C6D}" type="slidenum">
              <a:t>&lt;#&gt;</a:t>
            </a:fld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6417828-32B0-44CE-828D-57E907B9AF26}" type="slidenum">
              <a:t>&lt;#&gt;</a:t>
            </a:fld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1A2DF0C-2910-44B1-8907-87564C54A567}" type="slidenum">
              <a:t>&lt;#&gt;</a:t>
            </a:fld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C5A12BD-F895-4ACE-A182-C4DB695AE1ED}" type="slidenum">
              <a:t>&lt;#&gt;</a:t>
            </a:fld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696B4FD-B401-4EB7-8F72-5AA68BDA8BD9}" type="slidenum">
              <a:t>&lt;#&gt;</a:t>
            </a:fld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B72E978-046B-4376-B665-32A770613D62}" type="slidenum">
              <a:t>&lt;#&gt;</a:t>
            </a:fld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7F75B69-1C7B-44C7-ACEA-4482A38CFB8D}" type="slidenum">
              <a:t>&lt;#&gt;</a:t>
            </a:fld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CFAB9E8-2A98-4BCC-817D-4D32885841EC}" type="slidenum">
              <a:t>&lt;#&gt;</a:t>
            </a:fld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46CAA70-BC1F-472B-9036-F9D27F62E410}" type="slidenum">
              <a:t>&lt;#&gt;</a:t>
            </a:fld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661D820-63DE-4E9D-8A6D-21FC844A9AA6}" type="slidenum">
              <a:t>&lt;#&gt;</a:t>
            </a:fld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48EE592-7EBD-4A6C-AEC6-FC06831C60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2CCB-0F47-4927-87A2-50973466A36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5436FD-AA03-408E-AF49-2F0220070082}" type="slidenum">
              <a:t>&lt;#&gt;</a:t>
            </a:fld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50838BD-BD50-4155-BBDF-66A19C534892}" type="slidenum">
              <a:t>&lt;#&gt;</a:t>
            </a:fld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9A050E0-7B6B-45B8-9845-18D7E58DBB2B}" type="slidenum">
              <a:t>&lt;#&gt;</a:t>
            </a:fld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009317C-CF21-47F6-A83F-D0B01C974518}" type="slidenum">
              <a:t>&lt;#&gt;</a:t>
            </a:fld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BA8E178-FDD0-45A4-BDCF-26C3955FA972}" type="slidenum">
              <a:t>&lt;#&gt;</a:t>
            </a:fld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F6E1B08-88E1-4817-A910-0F36AF6A3087}" type="slidenum">
              <a:t>&lt;#&gt;</a:t>
            </a:fld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6944AC-9B32-459B-82F5-B47D72F204E4}" type="slidenum">
              <a:t>&lt;#&gt;</a:t>
            </a:fld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917EC2D-AA1C-47FD-A316-94386B86D8C4}" type="slidenum">
              <a:t>&lt;#&gt;</a:t>
            </a:fld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E5E295-CE3F-4ADD-BBC9-5C670919809D}" type="slidenum">
              <a:t>&lt;#&gt;</a:t>
            </a:fld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3247A84-EADD-4319-B134-0EB874836EE3}" type="slidenum">
              <a:t>&lt;#&gt;</a:t>
            </a:fld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2BD292-4FC7-45C1-87DD-54E45B0092F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B17BF-0312-4993-9596-90BF9FFF7428}" type="slidenum">
              <a:t>&lt;#&gt;</a:t>
            </a:fld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66DAD5-3041-454C-89AE-E334B9EB3ED7}" type="slidenum">
              <a:t>&lt;#&gt;</a:t>
            </a:fld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CE7FFB-FD1C-4D70-8A0D-40E1B379A001}" type="slidenum">
              <a:t>&lt;#&gt;</a:t>
            </a:fld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06698E-889F-4754-9044-3959ED15AD5B}" type="slidenum">
              <a:t>&lt;#&gt;</a:t>
            </a:fld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977A8F-0255-490E-ABB1-75E4F2C0B891}" type="slidenum">
              <a:t>&lt;#&gt;</a:t>
            </a:fld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FA793B-ADE9-4975-9897-C079DDF03F3E}" type="slidenum">
              <a:t>&lt;#&gt;</a:t>
            </a:fld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2021FE-0C91-4EF0-B83C-95CC6DDB19BE}" type="slidenum">
              <a:t>&lt;#&gt;</a:t>
            </a:fld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A8D5D4-D606-42E5-8CF2-B174ADFD1CA0}" type="slidenum">
              <a:t>&lt;#&gt;</a:t>
            </a:fld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5A3A84D-58A8-4526-954B-EC011C5A1672}" type="slidenum">
              <a:t>&lt;#&gt;</a:t>
            </a:fld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0A128AC-43CC-480D-8555-55D546FFC733}" type="slidenum">
              <a:t>&lt;#&gt;</a:t>
            </a:fld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2515B00-3AD4-435F-8594-2E4C8DFEAA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832F3-F313-4E16-B217-2C240636DF02}" type="slidenum">
              <a:t>&lt;#&gt;</a:t>
            </a:fld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EEBFC67-6571-4EC9-AE36-9664A1FB8DD4}" type="slidenum">
              <a:t>&lt;#&gt;</a:t>
            </a:fld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83F39F6-A366-453D-A34B-630880B33C59}" type="slidenum">
              <a:t>&lt;#&gt;</a:t>
            </a:fld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354780C-7D95-4D4F-947A-4C18BDE73F45}" type="slidenum">
              <a:t>&lt;#&gt;</a:t>
            </a:fld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C4815B3-38A2-4CE4-936C-72ED6C2C48EB}" type="slidenum">
              <a:t>&lt;#&gt;</a:t>
            </a:fld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194954E-7E58-4904-9A88-2BEA4E1FD871}" type="slidenum">
              <a:t>&lt;#&gt;</a:t>
            </a:fld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8C7C637-8627-4817-9994-4AC4E1951CBD}" type="slidenum">
              <a:t>&lt;#&gt;</a:t>
            </a:fld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D8DC41F-0A31-47FF-9626-4FFE1E1FFE43}" type="slidenum">
              <a:t>&lt;#&gt;</a:t>
            </a:fld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A3FB72A-E3D5-4444-B9F8-8C3EC51D2022}" type="slidenum">
              <a:t>&lt;#&gt;</a:t>
            </a:fld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EFD2CC3-68FC-4CD7-A5C2-6465E5A74ABF}" type="slidenum">
              <a:t>&lt;#&gt;</a:t>
            </a:fld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0DC61A5-890A-491F-8324-FB2269AA3EF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30B1E-61B0-4F0D-976F-C685E01212F9}" type="slidenum">
              <a:t>&lt;#&gt;</a:t>
            </a:fld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82E9E5A-4C99-4A45-8A1A-4DC696293073}" type="slidenum">
              <a:t>&lt;#&gt;</a:t>
            </a:fld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5D2E9C3-F7FA-4ED8-AD2D-B4A5E3EF5890}" type="slidenum">
              <a:t>&lt;#&gt;</a:t>
            </a:fld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BBDCBC1-693F-490D-B9FD-BDF82266AF30}" type="slidenum">
              <a:t>&lt;#&gt;</a:t>
            </a:fld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7A31ABA-1CB7-4A46-A6FE-6A176C0CFB03}" type="slidenum">
              <a:t>&lt;#&gt;</a:t>
            </a:fld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8B10935-7E8C-477E-8CB4-1E6071E7C769}" type="slidenum">
              <a:t>&lt;#&gt;</a:t>
            </a:fld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F5643B8-2D98-4567-9AEB-B5C349CC684B}" type="slidenum">
              <a:t>&lt;#&gt;</a:t>
            </a:fld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959A1E1-F1F3-4C6B-831D-14A02D09A294}" type="slidenum">
              <a:t>&lt;#&gt;</a:t>
            </a:fld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97ACEBC-FB64-4BB3-8EA3-DBA0161D2701}" type="slidenum">
              <a:t>&lt;#&gt;</a:t>
            </a:fld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03D8480-5B4F-4AFE-8AEC-7E8EAC7FA8E1}" type="slidenum">
              <a:t>&lt;#&gt;</a:t>
            </a:fld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6E2D1E1-6695-41CC-873F-1D6A80075AF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8F00C7-5BE8-4724-92DF-8C95060A1B90}" type="slidenum">
              <a:t>&lt;#&gt;</a:t>
            </a:fld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FD05986-CE52-44D3-8E0A-B3E3349553B8}" type="slidenum">
              <a:t>&lt;#&gt;</a:t>
            </a:fld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BD1EFC7-B1CE-46A9-B894-3FEDFF89C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A4B20EE-1016-4984-83C3-C3AE570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3171A92-950A-4695-9731-349C360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685F2B4-7241-4C48-9F39-FEA4055F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A0392FD-26B1-4D1C-9094-67AB37C2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C7C6B58-2F92-4205-A0E2-554B8A2F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05A38C5-A660-4CF4-B4C2-7017C04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2FF455A-5D21-4D4B-A0C2-CE090F3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B22E18B-56B4-4B16-AC9C-B30D6F8D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99A7E-5569-4B95-9265-E7BA00615BBA}" type="slidenum">
              <a:t>&lt;#&gt;</a:t>
            </a:fld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205C39F-748B-4F3F-9AAA-4CB58AD0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4F84E32-0CA2-49B2-838C-737D198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641D2FB-30A0-4A72-87DF-C572F15D8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CAFF78-0AF7-4B3B-905F-E0A0D77A44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E882C4-4D65-4093-9430-02F8E28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BE4FEF-35CD-4A72-977C-C8C61A4F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F7134C-89C4-47DE-99EF-CEF5371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7EDBB8-5E62-42B8-A4BD-DE0B82E0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B34EEB-C9B0-4959-B46C-8696719C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3F87AF0-786C-4C7D-A837-F54F20D9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E96AA-6FC7-4BDD-9946-B3B0720CD0EE}" type="slidenum">
              <a:t>&lt;#&gt;</a:t>
            </a:fld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0E71BE-174B-4426-B47B-793DD295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2B3699-BC35-4B99-AE10-934AADFE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6A7170-09DD-4490-B63F-ED6A369F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C913C2-C904-4497-A2F7-C45BCE4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0C46AE-8168-4131-A675-ADFA49ECB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B76352F-EDC4-48EC-94BD-DA8FD3AB0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03AC561-98F5-4D76-A4AE-DA6AAE5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7906E7A-5C1C-4D36-A54C-BBDBE43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44E2F77-5A19-4473-825C-22677605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23FED21-5FEB-419D-BE13-DF99B231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7D9A5-39C0-4D18-B0B2-2DAE748ADB7F}" type="slidenum">
              <a:t>&lt;#&gt;</a:t>
            </a:fld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0870C9C-7C02-4AAA-B82B-D4F8A8DD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1E0C74F-9230-4085-B0F8-CD13DE7C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E4DCBE4-ED17-43A5-8D29-6357B2AE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47D6739-B8DF-42B2-B728-42D4514F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F3B0A6B-EB3F-44A2-835A-15B42973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4DB328A-EEBB-4B38-B1EE-4C972C9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1F15456-6F0B-4779-9F12-B70494181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ECD0913-8459-4F09-8C91-ABC1EA540D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8331D0F-A061-4EF2-8B7F-EA71F55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1DDEC7C-A0FB-4141-BEFA-712E28B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FB825D-B6A0-4FB5-933D-0EA2031C09A7}" type="slidenum">
              <a:t>&lt;#&gt;</a:t>
            </a:fld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F0EC479-21C2-4D17-A416-69E3815B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FB0CAC5-178E-41B2-A39D-9F90AA9E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FD3DFE3-6CEA-496C-8F6C-E08D7725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B7C0244-96AA-4301-A468-BAED3367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86B01D8-C2FA-4665-8E62-06A8454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9E28819-359E-4738-A696-845DF0D4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465E818-5B2A-4F7C-A451-9428951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6F9780B-43AB-406B-8421-5F9289C0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AA48B26-3E79-49F5-92E4-16E6F51DC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8D78DF-C676-4F24-8883-1207CC832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2626F8-FE75-4E39-B46E-6C6E742AB7C7}" type="slidenum">
              <a:t>&lt;#&gt;</a:t>
            </a:fld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52A674-CB8C-4A3D-A55D-C939B714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9A2222-81C0-4DC7-97AE-5CA81355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630175-972F-4F47-830A-92BB8E0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006DE85-8C38-4AAD-80E4-3D1E1A59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834A0A-B3E5-4103-B475-88CC9CF7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7EE399-D69F-4E9C-A4F6-0C78CF87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B5A7E9-1030-4B51-B51E-DC546DB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6565F6-28BA-460E-98D1-B4F4771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4032E0-BCD8-4B30-9469-D47503DA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C9774A-3E80-459F-A28D-62CBDB53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031C-563A-48B5-B88D-E00486D0044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0D73A-DFFE-4223-A4DE-2C68BD49378F}" type="slidenum">
              <a:t>&lt;#&gt;</a:t>
            </a:fld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1C0C74-23A5-43DE-8743-6B4F551D8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CC8D56E-9B28-4231-B718-C9828363E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47BCD55-51BA-4D45-BDA7-CB4F3AF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1530CB7-F511-4EF6-AFC5-45A5CA3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7EFFD9C-C46C-47FF-A5C8-BBCC6E54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E18C348-FB7B-4C4C-BAE8-2C8FB428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88A3EFF-558F-4DBA-BD08-D0CA6A15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D5339F2-E28E-4956-AE61-099F7459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C95EC9F-0E4F-4CA6-B37D-E5EEF19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2D86E71-A8CA-483E-8058-A9DB5B4A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5D462-9FA6-4BAC-9CF6-358C01E9ACD1}" type="slidenum">
              <a:t>&lt;#&gt;</a:t>
            </a:fld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C55F116-CD3F-445C-B92A-66FC013B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5EDB167-CAA7-42C4-8A28-90C8590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6899696-8391-49A8-93BD-6DC823FFA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80A3B93-8234-490D-9BA5-779BD48E1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87D5E45-1A87-418B-A67C-C4C2FD3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F2682A4-017B-400D-802E-327F5B62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6D32485-1881-4453-B8A5-67674EF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31E6985-84EC-4353-B7D9-8185BA81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C61F062-195F-40F7-B5F5-B23EC1D5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E1162FF-DD1D-4BA9-A224-E37EFE82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7E4C9-280B-4817-87ED-6BDC5B861DA4}" type="slidenum">
              <a:t>&lt;#&gt;</a:t>
            </a:fld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B9F1353-B309-408C-9A42-A7E13DB0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95DAB9-F685-4393-96ED-4EBF662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82EFCA1-F1AD-4A0B-8E4D-D1E5DB61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F78A8E-B88B-46E9-97A7-A46B132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46E88B7-5FB0-457C-96C7-2C89BEA17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8438EE-FF17-4F3E-9A92-4DF3396BC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F84D55-CE98-4547-9BFE-ABD0D4D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63341C-8BB2-42A4-B0B7-E240BB5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08970C7-565D-477C-B9AE-7058C82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BC54B8-1103-426B-BCF5-3BF4083C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CFB4D-6671-4F4A-8EFB-3657875B4A07}" type="slidenum">
              <a:t>&lt;#&gt;</a:t>
            </a:fld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A9641D9-5152-45AC-9A3D-B76F1541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200CC92-8202-4FEA-B513-7267667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A1E487E-3D9F-4300-BAA3-A0F5154F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0C09BB4-1DE4-4EB7-97F5-6C46E31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A9DAFC-EAE2-4187-90D9-516A580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CF7D5CB-814F-4123-8470-872DC30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C774993-03AF-44D6-9D0F-8C31ACB8C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6645CF6-5225-48BD-859D-C6E9F122E3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C32CBE4-D16C-453D-9974-AF8B026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9AE3727-7C4D-4162-B34A-FE553265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8FEEA-01A9-40F4-91CE-5AA5D7C0C586}" type="slidenum">
              <a:t>&lt;#&gt;</a:t>
            </a:fld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1BFD515-652D-417E-9FEA-28629C91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08CDC1A-7C7D-4B9E-A448-DDAAAEDC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E6BD4C3-E837-41AE-8CE5-9EFD53E5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446557D3-C0DA-4E7D-BF6D-B8AE7AE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D166590-5850-4C80-9321-D76E272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2C71B98-D2AB-4F0E-AA3C-3ACA8E6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C5024A2-173A-4E9A-B1CC-70D0D048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2D15D57-1B75-4AA3-8DC9-7CE9AD11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FCD94E5-78DB-4D6A-BDDC-63CE7DD62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3AA6D95-2C3A-42A0-AD40-4496CC8EC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C830D-085F-487C-AB7E-A4BBC7DE301F}" type="slidenum">
              <a:t>&lt;#&gt;</a:t>
            </a:fld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D6FE12F-BA91-4AF1-BE87-94E47EEF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946C79D-B288-48DA-85D1-9CFA4B2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CD6BE65-C6E9-498B-9B88-0BB47D8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B786D07-A040-4445-8028-1C19660A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56481F8-13E2-40F2-BFEF-138F0297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9689286-F0E2-4AFD-972C-A953592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9B17A0A-7D51-4327-A66F-89B5A5C1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33DE259-56E0-4DE1-ABA2-87A4B55E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6CDCB99-AB9A-44DC-94C6-3B2CB772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F6B738E-B0F8-431E-AAE7-43955F6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ECA77-61B6-4291-8AAE-E6601AD95D15}" type="slidenum">
              <a:t>&lt;#&gt;</a:t>
            </a:fld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45C5E33-952C-4F46-B65B-38952E13A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35F8F9-52CE-45BF-8D53-B0A1874F5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239B1DB-7025-40F3-ACF0-13623CC6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179CDB-50EF-4AE7-9204-6202755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B7FB5F1-BB41-49C9-B9F8-ABC6802B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0936EB-0B20-42D5-A620-5CBA7B59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904704B-227C-4080-B6D2-CFCD965B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06FC14C-BB02-4CCC-A957-F786ADC2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07F8F71-7EA5-44CF-BEDE-4B56727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F33B28-514D-40DD-BA94-B654C21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84E6D-E5D5-44DC-A67A-E9A9A2FA20C6}" type="slidenum">
              <a:t>&lt;#&gt;</a:t>
            </a:fld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C2080E-01F0-44F3-9828-935340D7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9D99A82-AC0A-4E15-9F99-8827636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D34C1FC-4C20-4E8E-B50A-09E91E1D7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EF4AB-4BAD-42E0-8B87-5E8BD28B0F8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4A802-CFCD-47F0-AAAD-B29B9B9D4E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8D39-C0B1-42DD-9658-99310901981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0CEBA-156E-48F0-B698-D4431DBCC2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F5595-B14F-4206-A856-2FD4C4A8B44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08901-9EAE-4BCC-8E90-5A749137550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05BB-9A99-49D8-976D-90290E873E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E2F34-2C81-473B-9551-03C42B078FD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C7D1-D059-4F94-AB10-CD808BF246E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CE64-A99B-45C5-A2FD-1ADC3EC4923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F526-A2B3-4AB6-849A-0E81F3F0568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6BFA1-3AD6-4E94-8C16-1526027EC51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7FDC3-7B8F-4C6E-837F-AFF9B02E7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05AD-F162-453B-9C4F-6A582CCA8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AD67-8E96-424F-A4C8-E49CA58080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A6ED-E438-439C-9FF0-8CD47A802F4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1373C-5831-4B5C-B988-5DF03CD33A6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582D0-001D-4F9C-AE4D-993121FB683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78EE4-0D1B-4729-AC08-0303B526EDC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A3FE-FD92-4956-9E9C-A8A07BC9F2E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DCC95-8055-42F6-9C4C-FEB9CD04B33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92A31D-948E-46BE-8443-3A03B04AC3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FECA9-AF4F-4AB9-BB83-4BED21CF2D1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039F33-8D62-4757-86D7-758F752875E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8E45E-27F0-4AFF-913D-A140C6DE5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1441-5B6D-4EB4-A2FD-02A5B1855D4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37E2E-9EAF-4220-962B-A44E60595B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CDD260-EECC-4DFC-A1C9-4BE50354206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9647A0-8E46-4BE4-848C-3778132D7D4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BE781-A2DC-4DCC-A67F-7128CBEEDBF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41DB3-801F-4A64-BFBD-23CAB857B41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6E1114-5FDE-49A1-AC7D-F30AC1C9E08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E2503C-89D0-4064-9DD9-340D0E449A7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6D0F5-6E04-4275-A6C0-DE1239F75F9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83527-3B43-43BB-AC04-97DB488D54D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8EE8D-9F4B-44E9-B1CA-C314BD9D43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6480-675A-46A2-A898-AFCF355B53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CEBDD-7D67-4576-B170-5CF0730195B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00FD0-BE71-4097-B140-CC4BBD0BCBF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F31F9-4D9D-48FE-88F4-783F3D1A4F3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76233-C570-4FBC-8B1F-CE8E58B5408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BC1D7-AC7E-4B2B-871A-2861146C3CC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BEC8D-B075-46E4-89A6-10C77AF4373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263A6-98B3-4BB7-9F92-5A0B8CFB0C1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30A48-1C50-4C5E-BCCA-4657800687B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E87C9-4411-494D-B4AE-12BD77FF6A1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E924-4FAF-41DD-8989-A033915B1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04F2-DC6E-45CB-9AF0-3CDD004B883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927F-DA81-494B-9552-F4572522FA2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3A84-3BB3-44B4-BF98-0EFAC38EEE8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ACA53-CE29-4A0E-A0D9-CE3A934E392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2EC2-3ACD-4E6D-A46D-44F3FAE6668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05795-940B-405C-B27E-951ED18E20B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C23EF-EC50-485D-87B7-B023C42A912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6613-DAF5-4A92-BC48-42CAB5B4217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6613-25D6-4831-A09A-6929133B5A6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3DF9E-07C9-4889-8199-CF4AECFA806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CBC7-DF09-4BF6-A908-CFC8C2F53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F67F-097C-484C-9855-DC7DFB78831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751C-9E6F-45E1-90FF-7C5D7A477E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9628E6-FDE9-440B-8B9C-D0819E5116B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3E611-666A-4E2C-B0F6-EFB81BAFDB6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5354A-C61B-4E68-9EBE-A06AC756CFD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05F20-2C30-447F-9154-62B0C202A13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147C81-BC42-4837-A2A0-FA70D0FF49C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BE07B-CF85-48A0-8345-5F384BBDCC5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04D88A-6F1A-461F-9EFC-F632AECB3B1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07F441-09A8-4765-8D26-363737E4577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2DCA4-EE6F-421A-89CF-63AC55E1E2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4BD-8FAC-480B-9E00-A936F87E3C3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1EB17-7515-4FF2-B9D4-9D7EF35A6B4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17F15-1AAE-49E1-81F8-F0896D5AC61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89D99C-4531-4E72-BADB-1391A379089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A62B3-E67F-4906-A2BE-6FB53F02DB2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46A7B-2D7C-4036-8A83-83D9FA6BB86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316E83-52EE-4083-AE7D-AB7188E7B9E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727B2-7853-4A8B-A064-F94B32DFA67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FBF13-2032-4764-AF7C-32FBC7E87C0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86A06-8883-463F-AC74-982071D759A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54AB4-FB71-4EAD-A4DD-CBC02240D3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6F4-E604-4575-898B-8DC284223D1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4C48D-EA5B-4882-9377-BA42CB91604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9E7D6-FD75-467A-989D-96D96534C78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333D3-E7C3-4127-877A-8502DA9F097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6012B-EA65-4568-9FF6-A5B485B1EA0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A9F0F-7FD7-4828-8F19-720FAFFB580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CD5ED-786A-4F2C-B105-AE3A6DC69EB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A05F6-A976-4340-8512-A94DBEBD30B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727A7-9C6E-4213-AB44-5D270BE38E8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17FF-F0A0-40A1-BA47-91789B00040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0525-2F40-49D4-950C-AD958328D8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AD7-0197-4DAB-8C3F-80B84375181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5CBB0-7E23-4B0F-97F3-E36732E25E4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6043-BE44-43D3-B351-1B66FE70AAF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CD08-86FE-4EAD-B8BD-85D4CDD5ED8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9444-B35B-47C6-B82B-E6300C4D94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E93C4-4E65-4A83-831B-4F66415CC26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5FE78-402E-498B-91C2-EEE80D95618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493E-A268-45A8-A782-05DE1148869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84741-3508-4460-9D0E-4B990FD70A4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43473-4D45-42C6-94A6-F8814AF7AFF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CCBF6-7549-4504-8671-61F51FC549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214-1048-47B2-BAA4-900EEDC1AAA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36141-A4FD-41CA-8D44-060FE0BC566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DAD50-9A49-442E-8B55-508DF1EA68D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18794-FE6A-4049-BF42-85F268FE71E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A0A5B-918C-48D1-8FE0-1511CDB7932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78996-8AC9-4C84-81E9-7D36A92204D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A5CBD-3FE8-4111-9818-51B3D4B3278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FB037-163B-4C56-A441-15CDAC91DE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18BBE-9CC6-4EB7-9E5E-DC9C2C36750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929EC-DFD9-436D-998B-58834D0439C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4EDE99-86F9-45A5-9F3E-5E0EF4FAC0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033-23E2-42F8-8155-E9E8039320D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6568A2-E936-40A8-9373-F120627115C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E69F42-23BF-4D2B-BFBE-A622CAA73BA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2E201-B7C8-41D4-8FC3-1661D911060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57AF60-1415-4349-ABF7-CAAF30FD942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64902-7B70-46EF-86E1-CE3A333FB4C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3BB9DE-6FE5-4894-97F5-7B293068614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C3A46-94E3-4CCA-8462-BC02F444C4A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2DA43-54BA-4148-B2BD-CA13AAA48B5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E28C0-390B-4E66-8E1B-5C42B13FEB3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10213-9631-4D3D-862E-E6A8A54A8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EED2-1AE0-4673-88FC-1662F135CB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6A4-396C-4D49-A262-0EE2F04CD9D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A1C88-63D6-49C7-9D25-CE4AC08E29D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D38CC-53DA-4154-8EFC-77FFA5F2A44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F45AF-2E40-4924-84E4-5949007AB94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6F942-5FB2-49EF-9F59-DFC9F0EEF38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FBDF8-75C5-48ED-A8BD-9FFC98EE90A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03FBB-C808-4093-8633-4F15AA1F4A4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7EAC8-0304-466E-83E1-1CD660C3692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3CD39-618A-48D5-AE32-6CEFDA030D8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44009-A048-4ADA-8CBF-FD87B4C39FD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F9F7A-CF79-4272-8D26-54431FF5FD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869-C016-4A0A-A7A8-2C49C44ACAA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461B1-F19C-4F41-B2A5-00DF6852590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EC1A6-9FA4-45FF-ADDD-306B164EBE4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01742-E042-4349-9314-6655BF784AE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3EE52-7CEC-4A48-BA2F-CF392167488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0B6E9-7B97-4F8B-A215-036ED93631D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675E9-97E7-425F-89D9-7981C46BEB2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211DD-648C-404C-9421-7D8AB70F125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7EE7C-FB72-41B5-A0C1-BCABD7B7CDF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76F5F-7331-4955-9FFC-06ECB1AC011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B6AF8-4DE6-4308-B4A2-AAB5B114E3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54E-0DD8-4ACB-A10F-5680AB7FBD4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8F45F-C5A3-4203-9DF2-F0D052C7D4C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E7839-3AB6-41FA-9AF3-E729CE20D03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775AF-10D0-418B-A5CA-F4CB4C13CD0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B2BAE-CDB4-44AC-8DDB-2D31291F0BD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12C78-F62B-40DA-AC4D-07EE8A24E05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EC6E09-3312-43AC-9B0B-8F40A980375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02D25-FD5A-437D-A13B-F88D23A61A7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AC5B6A-FE1B-490E-B961-BC979B3A04F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ACEB84-7AF4-49CF-8000-9578FD94D02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FA1C5C-54C4-461D-B704-D1BA664B4A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895-549F-4154-A567-94346BC0E87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2F834D-475D-4B5D-B21D-0BBA6C809D4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6489A9-D860-4AE6-901A-BF2309A0B69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5C9F07-4545-4D75-905D-45DDCB7279A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CC27A1-9288-404B-8046-22B62396D379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47200-8092-4736-A485-F2FA9F0B5C4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C28953-4024-4C4B-BFD0-870A8F62D08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E17C88-48C5-49C1-99C1-117472108EC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96E36-EF9C-426B-B4DB-695DFBCDF36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0A725-DE28-47D8-B402-B96233F9537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23217-16A3-46F1-A29E-6F97370715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B04-BF85-405A-9B21-19E77D0CA63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C10B7-6F49-4B59-8C74-0E64D62F025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EDA18-6982-4541-B333-231E9706D38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2EBC0-397B-4902-A052-37C41E7F200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DB395-CB6D-41DB-8DBC-DAA834B2995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8C8F3-E528-4029-8892-91B1C74DDE4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9F87D-7C1C-46AF-ADE7-2C2B07C35EA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A2B96-E5D8-46BA-8745-4D6DC7936E6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1B374-BB9B-483E-9D3D-71A71D9B231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C1AA2-1723-4BBC-B123-BA1E07AB214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49D791-8E42-4B91-AFF3-7F5A8E1209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9EC-3C8A-448E-B548-83DC7DC8B17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BCD030-3F73-4BC2-87CE-17878DF3BD2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C817BF-EC16-4CDC-905E-C3A502F64D9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D889D0-0BBE-4A90-90FE-A85E50ED81F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96A83-1035-4BF9-AAEB-41A86C2BD63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19BEA4-A80F-4C4A-8F77-3725B8B482F6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6E39D6-8E8C-4A15-B2E0-DCA1F4624FB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7A034F-7B5A-49AB-9ADB-6E2F7EB4045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9F833C-2F42-4BD9-AD89-C36450264DA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D5DCF5-5816-41CF-B8A0-C8E8CA1C055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77FF8F-B1B1-4106-8363-4DDB434C28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EFE-FF44-4695-8959-C0539F3B482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BD468D-060F-4254-92A9-0D9E61BAA59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9CC47D-B93D-4FA1-9B7F-9E04C3519ED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64BD66-654A-4D40-BC83-5DA3CA813CA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A4DA6F-8331-442E-B03C-838D7A97B99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D6C20F-BF21-4CAB-BCD2-F8D0CBD995BA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AB895F-3CBB-4C5D-A06B-57D2BFCADCA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F0A85F-05AC-4EA0-AB5F-555FA968D8A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C3834-8951-405E-8C65-A1D2CE71B46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C78CD-6F81-408B-AC7E-83421DF8C6B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389F58-A79B-4234-9047-9E0F9B99E6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819F6-494F-4645-B78E-B119C42CAFA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7C4DE0-1DF2-4D23-AED1-4B5CFDB54DF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93EF3C-58B0-459C-A9C8-6EB593438A6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879229-7A44-4B7D-9309-E66E24C0B1D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36BA-1A80-4603-9C58-5DF9B2CB062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D7102-CDE5-46D8-9487-44366580720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50647-3AA1-4881-8454-6C704E1998B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35A82-061B-4655-BEE6-AC9F7162E0D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617E0-D9DE-4FC8-80F2-ED1AAD8016A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03B9D-7B5F-4041-8FD4-A855281F7FD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0B339-159A-4FF6-8127-9A89A7B80F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1C6E7-1B73-4361-82A3-7AAC246B910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19B6E-7750-4B87-A7B7-DB0E784ACFD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6AE06-AD25-4B43-85B6-61ED512E7E79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97880-DACB-495B-900C-EED13D93F30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3E455-34CC-4F3B-AFF5-9DD7B521904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8E20-7B34-49DC-AE4D-EB847BFEBB8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9C789-C153-479B-B34B-C13C8696F2E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AC2D6-C30D-4878-BB58-ABD6596B3EF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53BB3-3DF5-4817-BCD3-8A2180B6C48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0B8B7-57BE-4FDC-88EC-FCD538BB957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00B7F-A39A-4CDA-A9CA-2D59E28A92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022A2-DD49-408F-B6D2-CEC31C58A74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BC27D-1263-4356-810B-2D8C82FAED3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F2182-0615-4CD7-9885-A4537B0B9861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78498-D8A5-4364-A1EA-6C8DD03E834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3E04A-7B4A-4760-90FF-E56AADCF489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C369A-A60B-4289-AE20-F30F4649AED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12828-6802-4BE5-9AE6-410C17DA052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DAD10-76DA-4307-B307-D46431FB135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309B3B-9692-4406-9AD4-B93135ACE5DD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4387C9-C95C-4089-B743-76B3A010CC2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145AA6-5A50-4D1B-BBD2-2A90DBE1B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CC14-4C12-4AE6-BDD5-ABC30B90A3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55AE-5467-4A79-A540-98BA9521B6A1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3D80BA-6141-483F-89EF-3039987446C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92659E-3811-4416-AB49-5F86114D9714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F3B1C-68C3-4168-9760-C7C0EF23E53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AE5278-3B51-481C-8D49-613763F5FD9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11F58D-0B05-439C-8B47-C10C5D76046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1CFD10-3794-4D5B-961A-60A27F8EAF5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20BEA3-2699-4844-9AD0-392487E23A4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5764A5-B893-48D1-921C-6A7E0E40F0D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1E1B42-C5E9-4FCB-B834-B10CBFDD26B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FB20A-33FC-4974-B431-EC8267F5BF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18794-8ADA-4932-88A7-720647933C7C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2CE76-D988-4276-AB67-5BAA2C642FE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473A6-3AFD-4FD9-A72B-5D61089E83C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85A7C-7F12-4E4E-82DB-3163D97A1FC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1BA7E-1AAC-44BB-8B16-A988DF0C02B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9FE6B-1E35-4B47-8BED-CA6C49F3F54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2429-40DB-4263-95BA-A1A8D75C0FB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399BD-8026-4AE4-8B4A-33CFDBBF8448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D6452-3403-4500-ABC9-0FC9C85A753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B5956-A8F5-40BA-BE9D-B381CEF6EE4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01796-9C97-4246-84F3-0319D1A391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13459-9A4E-45A7-BEC1-E638E317680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E82E4-0556-4BB0-9B3C-5F4D922D1C7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71FD33-9051-4A6A-BFE5-8846BBD93705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E3CB26-2C39-4D0E-9D86-0419DE32595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CE2580-43FD-4844-A0C0-1D25DD4F1C9D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E1E434-553F-458F-B635-4AFD45C02B8C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5BE11D-4F17-461A-A76B-563CECBB659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323C1C-64F0-4C25-B0B2-F60EAAD8D81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1D87FC-F9EE-47FC-87EB-5589C524EC9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E08F13-8958-4E80-9B59-92012E91080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278B67-2354-4603-BD6C-7AF6806A4D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9FDE1-C402-4CBF-BC59-E34ECF64DE53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C7A82E-327C-4645-91B2-4ACFBCF115F3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6BB78B-A838-432B-A508-7CB1BC56237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18780B-4E22-4822-A926-E07332E8F5CF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382C62-88DE-4FBF-9879-E78ED07FCA9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507094-F589-4EBF-927D-8AE459CFC2D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82D142-BBAF-458C-8BE1-47DD43057EA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2D744-7971-47CB-AA49-31636A360B9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2B8D49-580C-4FE7-82D3-8F323469A82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9D46A-6232-43EE-84CF-88830E9DF3A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6D43A7-A5FE-4172-9B07-D8CB3BBFE9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EC27-D28A-45D0-80C4-BDD3F02967D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13177-7568-4CF0-B1A8-3079D91A551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9423AB-DB50-4CE9-B0DD-1CAA022B4E2E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48EC52-4987-4A0C-895B-FADD1DA2E41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6330E-B9E6-4662-A454-BA725487B4D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43D129-E92F-4EFA-AD36-0618C13F6D0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10371-743C-47FF-8BCF-36664776D2D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96984-0B23-4FDF-9995-A00BCA9049E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33718-6657-4797-9BE8-DEECD70A8C3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2BEEE-6776-4ECD-9BB7-E2F0810FCCB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07F62-6D84-456A-B293-D9DB79C07A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B0D91-A5DC-4EA3-8D9D-EC2129F1A04F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A5F57-3AB1-4AF6-9063-18375491752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75932-10D8-4F69-B2F3-D4D5484BA9D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30E46-F2F1-4160-9D11-99AA671C05E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8AF7A-374E-438B-96CA-8087D6FE4A02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43D2D-5ECF-43B2-91DE-5F63AFE3F91F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1CDC0-7464-42CF-BF05-1A20833C9A9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6F4CF-C13E-4BDA-A9D5-896F8A56D6A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C7AB9A-3399-410D-90E1-C385879067B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EAFD3F-BACF-43D7-AA19-1FE05830EBB1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AA2477-7AED-4D1D-8FB7-3C0547A19D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3F5FC-0A77-4441-84BA-D0D1E31615B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B5A013-B261-4851-A72E-2C8E6ED098F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76DCDF-9C66-4BF9-982D-A467872F529C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F7359F-B9E5-4412-B12A-CBBF761ACE3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58D622-F3BA-4D83-A6E4-844A986EB76E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68255A-F00F-4C5D-8BD1-901A501D66A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F99002-5B4E-4C07-8311-8E04D690C4C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B99F7F-A640-4C23-9177-F1E0AEB4CD3B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5F520A-A050-49A8-86D8-75CAF2D4F85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A70FD2-D4C4-4830-8390-2905C9D7967A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46E66B-E749-457C-9238-35513DDEF6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7164-D9C1-4A16-85B4-6B743C158D4F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468485-85CE-455B-AE5B-98E9481563A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1331B9-8DB0-458D-A774-6997A13737B1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4E830E-4F1F-47BF-88D1-8B144BC3F365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291428-93CD-4E99-89C7-D35DA0EA632A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F9F6DC-EDCB-4093-9ACC-5EAA4085A251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877CAC-BC0D-4F4F-95DA-7BF217DD5603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0116C2-DF14-4126-AFC8-6B2BA566FD7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5C5E71-4092-4BCF-83AB-025E682D000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324A92-8448-493A-BE08-AC81BEC400E3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DB1EA9-61D9-4E26-918D-9104447BDE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0E6AE-5E0B-4B0A-AA38-49B84F972D0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0F2D44-05C6-4601-9AC9-7491A4F2DAD5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9F4B8-CD62-4BEE-BE18-70EABBD5977B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D453C-6F75-45E5-B734-69711F8B401D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F8106-30A6-4E36-9B98-ADCA29CE9EA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4790D-9FAC-4B79-8B68-23B4AABF0BE0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31D83-E8BB-4EC1-AB4E-379B605BF12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96CA1-805A-4BD5-804C-72BFB355D540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45BD7-E883-4405-B157-B296A56FC969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40327-92EE-4178-BD0F-1FB1AD37334E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E1D08-EDF7-4BBF-BA1C-F2B36CF61F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93AC5-86E3-44D5-822E-7324CAA5BF49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43453-4C2A-4500-99C0-D18A0237D56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271D5-1CA8-4B30-8F20-0993027A650A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0E37B-8FE5-4621-B0AA-161E8FBDFD0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6C2CBD-8E42-4BEB-801B-57292154CED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AD8664-31F6-4356-898A-61AEBBB0E0D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F5D429-8C64-48C0-B6C6-87705C2ADF3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5D7AB5-EF09-43D7-9FBE-B630E62389D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0925DD-0FAE-4460-994C-E2B46196342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6322E1-C73F-4E46-AD79-49217EFD152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C3BEF3-D8C9-48A5-938A-66B21BECC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D74C-8B38-4622-992B-55DA14893F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60CFE-461E-44EB-A786-01C4B72CCD3C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43C2DF-C408-460C-A5EB-3204BD17930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9FAC09-3872-45AB-9E75-26CC94B08C31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59A23B-2A51-4F2F-A3DD-46736717104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C5E4AD-77CB-40F0-9367-3896D718026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604222-8BB6-4BC5-ADDC-C02232123E92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977CA8-87FD-483D-A1E7-984EFDB7F2F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4816C8-0EEE-46ED-A9BE-CE55D501028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7CAFD3-B2B2-452D-A001-27B5564B6CC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FC6CDB-0F00-4D16-9BA2-07A21550BB1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7AEE90-B76C-4D39-9A90-46D3947A59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DD5D3-444D-4F30-A4F0-EB20063174EA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4F0986-3FB3-48CE-ABA0-BE261F0260F3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44BDD3-9CDB-44D8-A3B5-05797AC05D2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4ADBBA-4CCE-4E48-9FC4-06081E9E39EE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C43D3A-2D1D-436D-B8A9-0CE67FF99EA2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F6BBB6-FA93-4B39-9D78-626DC9E9B0C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318AF5-3921-442B-8F25-39BE1138023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796DE3-3F92-48E8-9524-A97DB13B0F8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C341C-9216-4F84-9C2E-FC8E4724A76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4BF11-3BFE-48AE-AFB6-FD98637F414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09E10-8672-4059-8029-60F6C0C719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7011-1FAE-4538-97FB-C184B7364EB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45523-4489-4B96-838B-F5F77C49077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20754-5C76-49BF-8677-52448E3CF64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84DF5-21A2-4C7B-AFEF-B36F1C14D0D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BB0FD-C829-463F-809C-85E4AA959CB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F7AE7-BA01-4E4E-ACF9-D9B29F985E33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D9437-74DA-40A9-8F7A-DCCF6793A18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ABEEB-D69C-4F5E-9468-B06776C97E6E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AFBC9-4FE9-4ECE-A356-E6743046F38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BE389-9C98-4E87-85BD-B1881266E93C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0A02E3-61E2-4DC1-9147-9C72C1F52A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6EE5-323F-4A34-9CB5-AAD757D6B003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39E553-9DE9-4FFB-813B-C604078B20D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823029-118D-456D-B55F-1AC8EDE288D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518FC5-3F17-4AD5-8006-ECE2E6306A7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8CE27C-99C5-4BBB-9D70-85A0F26E602B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9412C2-8BC8-414D-9AC9-BFD61E22668A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2D3F46-03C7-4244-AC0A-BEF34F1B62D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FCDAF6-3623-4985-A31D-33B81DCAB04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2CD071-8A7D-4FB4-B070-1E8D8C208291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051BB1-F618-407E-A073-A8DC5B190CD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3D0B42-D8A3-47D0-9756-3DC356C5DF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8C792-1D9E-4CE1-B0BA-FB0D27FCBC9F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6BDAA0-27E0-41A4-8B38-D559833F822F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AD5383-CE4C-4857-AF84-FCE1F10A13B7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AF9E53-E126-41E0-84FA-B2F677E9BD5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5F131E-7D2E-4CB3-8C4A-D4AF7FD048E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C1D4AE-A18D-4992-B9F8-A6B5BC1656D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7D2D3C-60B9-45CA-85E3-3A5A52DA331E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162AFE-C843-43EB-993B-F177C592704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3E2E7D-A8CA-4FA1-9D44-ED64DC986DF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719191-1933-420F-8F0C-E1D60D8C9D64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F28ED2-BF80-4A6B-9753-DD6C384C77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D5E67-9B48-4B41-90C1-3B1196579F7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E29D8A-932B-4FA7-A99F-F880251647F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A75100-CA05-479D-ADB3-FEA10AF5BB1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043C3E-0D51-4ECA-A7AE-1D87570FA73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DEBC6-50DE-471D-9F53-338CCB6B9F5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73DBA-7B90-4AF1-9644-2D843F7F1514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F5B24-D352-439E-85AB-CF43B72D934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EBBC9-15EB-43A1-BF80-9436768AC29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B6786-9963-4C46-9504-F55DAEDF4F1B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4A37B-54B2-4EF8-9315-B61F0802634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22850-B120-4BF2-A770-3EBBA6A71F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07585-AA8B-43F7-81EE-59B3CF281359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679D2-E3E1-4CAD-B976-26B4743AEA7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8B99B-00A4-4EC5-9E88-FFF82C3B05E8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9F05F-90C8-44AE-AEAB-1A393EF5BA8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3A666-B27F-475E-8B58-E200C9BA421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767EF-2082-4B9D-967A-1E0109B4734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7691DA-2201-446E-81F9-EB8D9A085F0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61BBC1-907E-44D2-A34B-FB9A48CB729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294992-57BA-419A-A56A-0741BEB3967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4CBE66-1698-4422-9DDC-1E4913A68F9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69983BE-42BF-435C-AB0D-88933EFD0A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B409B-3233-497E-B929-B801C9231EB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1643D0-0AD4-4C2C-941A-01B1227A6AE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95CBC8-E654-4E8A-9D86-63FE52843D7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2B2424-078C-4566-93A9-6FD736CF664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600105-7761-4B18-AA96-F7E556CF11F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FE5F65-1CD8-4840-B3CD-352E89F60C4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33E4A6-A9B9-4438-B7E0-81DD77212D8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B1A2AC-EC8C-49AE-87E0-7099C9068F3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4DEDFC-6D5A-4F36-B61B-0DF4A1D492C2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B10BED-F94F-44C8-9781-7AE3286E466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531131-A9E0-4A6C-B631-67BED64E5C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61347-85F5-4F99-8658-7CF5CD336278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2B95B4-4028-452B-8D02-220FF0A9469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AA0DF1-3353-45B6-955B-E8F9925EB2C5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8C17E1-15FE-4A3B-85FD-96E94AB5D207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487141-20FA-4215-819A-67599CC2378B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154622-9743-4988-942E-9CBF048AAF9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935358-AE0E-43B3-826D-3436855300D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6842F2-A18E-4FE6-ACC1-B055A3C5C83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CE7F0E-3F93-4FC8-93CA-7013DB3DD28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A8D27B-2395-4C53-B425-C3C2B5BEF09A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7D265-3AC6-4427-9A1D-878F79B4CE9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3B960-B9AC-4E1D-94E3-43BEF9DBE3FD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4741F-B437-4115-B0E7-3C8F4F3CD277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FF4DC-090E-40CE-BB3A-E9BE07EBDAE0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96159-F17B-4221-8325-84B4E1EFD88A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E28B4-0050-4FEC-8314-E0D3146E9B83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7C684-E18E-458D-82D3-1CBFBDD4212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8D7B9-69CD-4EC5-898F-954DB2DDEFF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D1E81-C09A-49E5-BA1E-96AAEDD2F89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E0273-E225-499B-9997-8A62C169301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8D20C-E9B9-4C0A-ABCA-1336589AA880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FB0F0-BDFF-41EB-9A53-627DF370B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27BF-D73A-4EBA-B29B-E769C8967E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A1902-217B-4800-82F6-CC30F13868C3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8315F-40D7-4EF7-A965-3035744AD538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F2EA63-032A-497D-B95B-F84878C4650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CEC27B-32BE-4653-9753-473D758A78F5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095348-44C5-4C2F-9BFD-C43E8DBE28A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22D48E-4924-4C4D-B8B3-4B22CA38DAC5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C9BC89-5CCC-4A73-B65B-26BBB6E2480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090602-8457-4240-B72B-B6AF9474407D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E0A2AF-7875-4BAD-BCE1-9CF960A5482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EE8D7F-CED4-42AD-811B-473C6029166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0F826D-9F44-4D37-B678-217A4709B5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C780-795C-4FB4-83E7-39F6B3FCEC8D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341757-B111-4AC6-81AE-98EA42893895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180321-C654-444A-85F2-E5F1A336F8F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A9CB47-5722-43DC-A4D8-0F57C1AF8EF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2E449A-1471-4C01-B533-63DA1A8061BF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5DE9F6-F0A5-476B-8B1C-9DE1CA16DBB3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5F7B0E-35E2-42C0-AAD4-5CACB9DCAC1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0F06D3-D6EC-4442-BE8A-17626E3895E1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E4A867-1D28-46AD-8E4D-84FB9B2A429F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FC037E-6770-4705-A815-A9943515B0D2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A639FF-3CD7-4650-ADB9-19B1F4285E0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34C5-C3E6-4887-987F-FD62709B01D6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FC0204-8268-41CB-B111-357B9327159C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3455B2-A4B7-4F98-9E6F-95319B10555E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B76E57-2C67-45A7-8E92-886C8A170A63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6C0F7E-CF94-4176-A0EE-104656CB4996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DAB09B-885C-48EB-A5E9-175D50D7A919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A5354-04BD-4891-A4EB-A1005A3148F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7FA2C-9D7D-4A8C-B5F0-CCB4701AED6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90B05-9516-475B-A854-765A80019B63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1B8CE-DFFC-4632-966D-52D15C1CA26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35624-D184-4EA0-A7BC-B309132A56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F006-9739-4602-8348-6C676DFCA2A2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33A94B-F573-4BD7-859E-EDC8AB45274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0829E-A7F1-4644-8613-C0ACE5FCEB1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37721-19B8-4A42-83BF-026EEF983935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EDA49-0D71-4C58-AF72-CEB5D20D3D9B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4EC1A-EBEF-492F-9CC1-150F340EA4A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B3FCE-53BE-453E-BF50-A1ECC296D3A6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0E296-CB93-428E-8FF9-21AB9326706E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DD57E3-3073-4BF4-850A-41A415C64615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C24B99-FF08-4B27-A32B-38D70A2FD44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8C1B0A-7A6D-4133-A606-7993A9970E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58D-6454-473D-B7B8-4A235058AAE8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627FEB-C33A-423E-B819-B24DE333E09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33FBBC-733D-458A-812D-64AB8D87CF2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E22B67-B873-4150-BF31-95529CA3B5EB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9E0D08-6DB6-4A4E-9358-4CF497C4A421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011363-7AD9-4F41-8A95-CC67A8C9670D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6FF667-6D1D-41A1-8F57-9C05A294F635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69867E-4154-49C9-AE7C-6691F9E1537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54A454-703E-48E1-8C26-0AD302360E76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1660F1-5777-4D48-9F89-FBE7F6E0390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C4659E-FC83-4BA5-A05F-7F7D2304A3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3EB0-D2F4-4C84-BB94-ECF6A674A419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45585F-C255-44B5-B014-BAEA525137C3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871A45-915A-4D86-B0E8-594C0054951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B4A125-2EFB-45A9-B142-18E0C1A32527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BE1B2E-C44E-4059-B111-B435E63CE845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5CAB6C-F6E1-472D-94E7-F1AE5C783B6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015D4C-19D9-4EA8-9791-999440293A0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6B0D9C-0146-41DC-B95A-AA0570AE190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45D177-793C-4CF3-ABCB-03A7828F3DF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8A9B21-78B3-4A5C-A488-4941B59E270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20F65F-21ED-44AD-B7D3-6822CB0678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2F5-3E00-4E2A-8EFF-ED9CA3E3875A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F902AB-7F4A-4F84-BD5B-13B9936C65F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FA872-77FD-4B07-902C-DEC9A87FB9D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E95E2-8730-45BD-B9C7-A94749ABC831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686C3-262B-4333-B310-848D3243D60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1C6FD-FD0B-4C1D-BFAC-27570C61AFE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6AE39-2480-4D12-BD1D-3E228DD42D27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12543-D962-4965-B6F2-3422DF657772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DBB28-2AC9-46F8-B47E-D81F182BB26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C72C8-C642-4030-91C2-DA601CBB2B4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444FE-67CC-40E1-9CFA-A63CE2BAF3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6846-B55A-4A0A-A100-67A244FE6702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6D7AF-C3C3-4AAF-A2EE-9C09D677EB74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06BAD-E87E-4C19-86A1-01D11C9AC856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B55FB-11E4-47D0-90A2-C991A1647A90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686AB4-1251-4C6A-A1FC-0D470A533E0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610CE0-119A-4F19-A8DC-0FCCA33A045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CCA577-9A17-4096-8EB1-6ED223EFCAC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B73872-E220-449F-8B27-372E98A148BB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6CEFCE-16CF-4A43-B579-949173C49784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7D3BF2-A1EA-4A67-8DE4-D243E1EE355E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6D78A3-1F08-44DA-85A5-2CD4B0F785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163-FDB7-4095-B184-A5E470EA6CB5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49A9B9-33C1-44CA-A126-8934D338ED02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501568-8135-4420-8C72-464206E91F4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996A756-2B60-422E-8064-3C2DA4478239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72A059-205C-4D4E-9948-647CD16C8C94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D37081-F0BA-43D9-B8FD-85F8987A3A9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37CB7B-04AC-4F73-8E58-F1B1F45C139D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3345A9-C60C-437C-9505-723646F6749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35EF8D-C604-4C1B-8692-7DCCF97583E8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FAD5B6-2DBE-485B-8842-ECCCD52B531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93E2CD-1988-4078-83D6-A88DBA7065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87B7-218F-4450-8A92-1ADA61866B96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FAD234-1A13-4177-8208-00D7DA4AFC2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F0F9C9-ACAD-40C8-A648-3D50CEAE553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459BDE-F50D-49F8-AAF9-27FB22534B2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AD2125-3EF3-4B83-9332-7A207F8D3833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4C17E4-50F5-4573-8D19-196E3FE781F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39A73B-1091-4BF9-92D2-8D4DDA7433AB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A05868-8FB1-45B3-A0C0-7FBE87C422D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22122-F2A5-4287-9259-29A175FBA53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E82D8-96E4-4AD8-8647-B6BAC322440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205D2-479A-4983-9560-A73AA3256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6BE2-FECC-40B4-A0C8-56E4C3A7C9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2CE7-55B3-4EE8-B760-F646AF95797F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44597-A071-4DE1-8E2F-6DEF59690846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34633-2F2A-4C38-8DB5-32E30CE4247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6E1A7-5C29-4EA7-83D6-60C8E85DE34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640FA-9C02-4D65-9C01-6114379B150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4F922-EC96-46DB-91A4-BA1A3ADB8E9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DDDB8-C8E3-4BE5-8C51-E5C49696CB6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DCC37-9F1A-4CA3-AE75-858632C8B66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F8ADB-F603-47B9-BC39-401D71C5A20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3A5D8-A24E-43B2-92C5-7D18FB90AF21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1E2A71-5CD3-48EC-88D0-540758416D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94E-BB42-43F3-9C20-9946FE20C40E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4A6763C-F534-402E-BD19-48F262254EEA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BA8EE0-5A77-4723-8C49-32F524DF478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75CDD1-6C3A-4B5C-9B11-D6BF850C18A1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D7AFA9-2832-4EE3-A945-4AAF55874DDF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72867A8-822E-4B63-82C2-DD10FDC68EA6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6F927A9-891C-4D88-B384-BCE51BC16A22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1440CC9-A188-4043-A412-5261BD72DA5A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EAE15C-9AEE-4CB0-8BBC-7116C0F88283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94143D-CC14-4805-B2EE-B23226A4AFF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B313D4-BCAC-4B3F-A17F-DDE66D10C1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9BD-AEE6-48B2-A07B-D9AE3EDAD136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5202A9-1F0D-45E3-A7F2-486BA550B2B5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7662DB-8AA4-4498-8BC0-F6050730650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ABF8D9-9D72-42D9-9BB7-DEB4D971D6B6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ED7ABE-03DA-4C4D-AE39-7A3CB9D0356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2189F7-D2D3-45ED-8646-9BBFEFF77589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AF01C3-4DFC-453B-A4C2-990D7DEBAB9F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9B3413-3216-4772-AE89-0D4B7018C6D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D357F4-C08E-4E7E-9894-62EF1E16833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A37B4F-710E-408B-9182-4F58DABEF20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1EE557-3382-40A9-A896-51C8FA50EA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F1F02-925B-4FD3-AF67-580B82F6DC90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7A2B9B-916D-4D19-9BEC-8C9ED448BF34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029245-CB43-4C6C-848D-39EEEF729D3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69A8F6-A78E-4692-9E17-57311F9994AD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0233F-7512-4080-8904-030EF0C88342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3CF48-4984-4467-9106-26C48AD4F75E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67C255-D84C-412C-AF53-7FCA42BCAA47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BAE60-8C42-476B-9861-3BC19276BD37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86F3A-BD96-4E5C-8B64-44B1127D3168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C7224D-B336-4A76-95AA-1017A5408282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FD09F-ABD6-4EC2-9B39-84EA5C7D3D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7B5F8-CCC8-4687-9136-857E10B95B34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FB858-BB5A-4FFB-9F6F-5C79857D9DB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10910-C92C-4B9F-BD89-F26F365C961B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DFA3A-A3AF-4034-A878-8E9AC4D3A82C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09C4B-07FD-4977-8489-126B1E7E4885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83921-2584-4D4E-B76A-7CB5AB75935C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00C423-A3C0-4C1E-B61C-001264F1A113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19E491-B24A-441B-BBB5-E04F9DC097CE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915462-2B64-4609-85A7-2FA3D6D8B377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97CF03-19DF-4438-93A1-3127026E158B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3B7A2D-00E1-41A7-B14D-AC129C228C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BD55F-9B85-4ACA-B0D7-B25BD6D9A38A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70AAD9-F852-4702-BC51-3E75B8E4B749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D18C28-EA83-49D4-B668-6F9573A407F7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9946D3-F210-4435-873C-F0212D34CFB0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E8D179-F78C-4FA3-BCE3-3CADA16BD796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52AD41C-0D7A-4FD7-B32C-E11ABC144CA9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804C102-F5CE-408C-B4E8-F59BCA0D78BE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033D19-C841-447E-B1A4-1448448BE171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6E4568-68B6-4169-971A-9DB5FE56A321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8A8DC1-58A5-4538-855F-884D0B65E6AE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960147-86C2-48A0-870C-3E78451114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105ED-278D-4B96-B68D-453F30569113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630D83F-55D0-4378-BBE5-CA86CFB2FCED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4897AB-A22E-4EFC-9848-AA1F82A7A9EC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A224F3-5C54-467B-B307-4D23CF194AC0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BF94B9-DBA7-4970-8ED9-15F78AAAFB8C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E2057E-200B-48A3-89AE-0668F84E46FD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29FDB1-66F5-48C0-8AAC-AD19C8E647F4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FAE686B-3ED9-4158-B04C-1A17F2B6F83C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B603AB-0336-49E4-BB9F-0C0049A41CBC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CFE188-A587-4CBA-9F42-90B7C2EEF263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3A09B-28E4-4D4E-A63E-524BC91A3A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8F036-3E17-42AE-A85C-53B83EC5CEBE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63BC3-FE86-4B88-9797-485845B88D61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AE58CC-CCC8-4457-8EF9-3BC2FDE192FB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94091-2344-490C-B418-DBC48158940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F10F79-9C30-44CC-8157-B25AAEF0B389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31395-257E-4EC7-85DC-9B439F52CEB5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45D59E-00EB-4065-BD7F-1FE72B4A8C32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73C47-D12A-4C19-B35A-C1B5BF1176E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7E04C-81FF-4D45-A262-4CA264848E4E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D5665-E9C9-4DAB-9B71-251BA0366A7D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805CA-0D9F-4379-8BCC-2DA12DE6FE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193EA-51DC-4E7B-A03C-5AE73C873041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8A707-ED86-4880-898C-5E3C5CBCAAC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978891-0E17-4E72-A649-28A4C7ED4158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F40978-A4EF-456E-A208-917A92349F7C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8C35211-9304-45E2-BAA9-D22ADBDC12B6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66E307B-68F1-4508-9821-A638937869D9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A6350C-7463-40DB-98A2-E5C4BDA8C6CB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694BFF-BA3D-4FDD-BF83-891028F80503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2EA866-C75E-4B2D-85A7-ED17EFD5336D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CB92B8-DC7F-41DD-AF66-07B2ABA0CA33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1F0094-7604-421F-AF3A-4FE4D01C6D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02339-C155-4E26-8BBC-80982A71AFFB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F78519-3E63-480F-883D-A20251EF678C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BA0087-ED99-403B-8B42-E8EB2AEC1583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730C3E-34D8-445E-88D3-E0B7EC62D17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32E9FC-4699-4F0E-8210-08CAE96BCE67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E95C58-12F3-4A3D-B825-6CCAA9045AFD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557D28-0864-4F91-A018-B65B12DFA090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4E3296-B5F2-46A6-A89A-C5883EF841B5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D01104-EE2E-451C-91AF-EF3AF827AA37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81655A-503A-4E17-8A28-90705A8662BA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AE546E-14C7-41C7-9693-478B64CCE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0F18-4556-4C6B-A61B-7230BD21C6C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F9E63-BA27-47BC-A751-82B9C1F5EC1C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2F6DE8-1169-47E6-B55C-7B1356767FE3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C352ACB-466E-435E-83BC-2B6C273956DD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81944C-DEC6-4320-98EA-A69B33F253AE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B4E1FE-7744-4E25-83F8-515205D22749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7EC368-8E7C-4E70-8803-1AD67FF9DD48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B339F-51A4-4BE6-B3B5-D913EA73868E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DFFA25-7FDA-4F0A-A55D-96A1D6507E83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B6590-6606-4E0F-87E8-2BF5FA419B1D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4C4C2-668F-43F3-A54E-F7C0F73CAD85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FA598-CAC8-4BB4-8FFB-FFD5CF162D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95280-F3B3-48BF-83A8-F006294937E7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86CBDD-5A72-4664-90BA-2951BB485939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82744-6768-4B8D-8FD7-CEB59FDC9A2B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D5FB3E-BD0C-47BF-9255-48C1BC746106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05D7A-5FD3-4BDD-8DBA-9004CCE10F3C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350B36-4C32-4721-A58B-1ACFA722AFF9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33469-C8CA-44E3-9423-B8876DCEE439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3FFC16-5144-437F-9797-E588B93DEBA6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4A15E6-1881-481B-96D2-B97EB65842C7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3F36CB-8878-4189-ACA0-4389C41E408E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67F40B3-C716-412A-9B38-BB7F4ACB3B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EABBB-68BF-4948-9F4E-23C788A8B25D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99A275-FEA8-4C84-A7B0-669B54B2A04D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A6D5CD5-41F2-4147-8394-5A6F8C33239A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764444-774D-4F56-8A26-196540AAB72C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9958F7F-E6F5-4F49-B616-B48339023A27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4EA99D-0DE8-4F3B-AA7D-A08C835346D6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6900272-911C-4C1E-B560-65BA4A6D9F15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641AC6-C683-43C1-A1DA-2184E725DC76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6FF70F7-FD88-4738-8DF2-18DF11DE528A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E07B85-6F52-4BCD-AF46-E9DFFAFB7A38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51B0C7-074E-4CAB-AC3F-E401D9C6FB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C44BD-ACE8-4C1A-948C-AD34BC0E6779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93442F-7E91-4A13-A232-5F092CAE45B4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CE83AD-51D3-4A59-96CF-4E6CC311D8B5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914501-3D55-43B8-9AE3-C94EAA51490F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302DC0-89AB-47F7-826E-0172E2D0EB50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8C57EF-B599-4865-B622-A8993A4366E0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A68449C-52B7-4DAE-9CC8-BC8CFC0E336C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073C10-29E7-4E49-BB67-8491AF28C040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DACFDA-B2A9-4E3B-B200-972E52C0DAF9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486F2BA-8DE6-48A9-AEB7-9748FAA75FDF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6964C4-E28B-4F45-B2CB-BC8B3ADBC7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45FDF-2FB0-4DAA-9C1E-F6D5C29BE9CB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4FE933E-DB9A-4EEB-918A-180B91906356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F07D9A-7A09-454A-AD64-0E7B7CFCA1FF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89A05-85CE-445C-B160-54A5C5CEF01A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4A7B16-6AF7-484D-8888-520E0D75C81B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9266E-99E4-4018-A52B-0B81C311FC9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4BF490-B09D-41D2-A3CD-75C7611A1567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D36420-2BD1-4850-83C7-D63B7A78B407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9205E-F664-4962-92AE-AAD804EA0E16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76694-CB28-4374-B523-C30C4D2831E7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65161-BFA7-49B6-B634-135FED394F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3A019-11FF-4BFB-B8B0-9BCDE28859A0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F7306A-BD16-43C0-892D-425A46749A7E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A78028-BC6B-4610-8C32-1F690FCEA822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3919E-6F10-436B-B592-ABB22BCA2606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10F736-E8A6-4162-B1A7-17CDBDD9964C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C9BB916-EE7E-40BB-87BC-823D23C6AD37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9160A4-CD53-498C-BAE8-28E01BDB4282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036D11-E396-40FC-8884-E0AC360F73EB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61B638C-FC51-4F99-B443-67E73020C785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22063E-7FFA-4D68-A9EB-185ABB12B612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8DF3D8D-F019-4E1A-9F50-117C59F1F2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62443-DF05-41A1-A197-F203C0A2D03D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82B8B2-7D42-465D-9D6F-C2A937ED186B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D94FC80-0634-40AA-AFC0-FA42FAECE6CE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1DC8E9-120B-47B4-8ACD-5AC8E97CFC51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96CF494-2789-48A4-8233-D4F4DC777332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13F108-7F6F-4CFE-8168-BE22D136DA86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660531-E18B-47EB-88D5-21F95417E213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E0085B-7940-4250-A5E5-6152ADA15ECE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2C39A0-DB5F-4F66-9534-416A4AF84064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1751AF-2085-4C8B-A15C-676589E6C8B9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3C75AC-A7D1-4AB2-8F91-AC11B3984D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EE342-0401-41CE-8A46-CC02EC38FC61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3E2297-FC4B-4CAF-8B31-346CB6281238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F50010-881A-444C-9394-1B70532A19D5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009C0B-1342-4551-8A17-A9369DC7413C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625880-B8C8-4C36-AF39-BEA287ED5DF4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03C7DD-04AD-4D2B-B214-9AEA49500D68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7519FC-DD23-4DEA-B3F9-78D61F345851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03B5E6-5FCF-4966-A15F-B1CB66B37FA9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8A2CFD-DC65-49D2-B1D0-55C530267355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CB2CE5-8C17-45EA-A155-3194AA9BAD8E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42A366-ED5E-45F2-8C0D-0681B404F8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764EB-4477-4612-9304-9A2CB8A060E7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552E5-F249-4AEF-A9FF-86FBD6AAC64F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564BFA-2681-4A99-B39F-A60F64886412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FB5F44-5742-46DD-B60E-8CE1E73947E0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0D9C4A-356C-49D1-875E-E1368648701C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40384B-3BF4-47A3-8719-E7A71549D9C6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3A0861-B228-4C54-919B-2922DB137CFC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C0A0AE-1121-48DD-B22C-BAD5FD126334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CF227B-9B7E-405A-9278-AE9C375EE953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24CB65-D65E-48EF-819D-FFAE9E429B95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429D31-F40E-450E-B0B7-1DDA26656D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93472-384B-439D-9D9B-107EB3B02F89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23FF7D-7E59-4194-AA30-7EC3C4ED36A0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DB58F1C-70A3-4A01-851D-B835310B4C0E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06A94E2-14CE-4A61-B39F-4ED91B99DEC3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F26B524-AF8F-4393-BE14-1C8EBAF629E1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CBC6DCE-C074-4892-80B0-7A06EA526AF3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E6A694A-8266-42AC-B8D6-672EDE4DE9E7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BC84BF-B5A5-420B-AE32-169EA022CC90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18CDB3-07AA-4D50-9774-FD299D392F13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7851C0-5F00-4385-8641-EBE128FBC366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1FF78E-9DAB-464C-A996-F747678F1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D49F-6823-494F-8D06-83DB3A87F4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4DB46-4340-4F28-B0F7-E4A2FCECF04E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110CF7A-EBE3-4522-A790-882C30EB6207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9C1C60-5417-4188-95A8-D2DF016FDA5B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8EC484E-F3BA-4B4F-ABE3-4F42ADBE53AA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47FDFD-3A58-4CF2-A0F8-D3765FB618C4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9E7B5A-0879-4004-A8BB-D6C7210AF3F4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4E0DBEF-DD07-4E20-ABAE-AA1E0ED50284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A444E80-DA29-4965-964A-8990EB4AF76F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3C6725-4F6B-4F9F-8168-FB3A38EA0A74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CCE5AF-1F35-4723-8396-FFD67E53CE6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B25A5E8-4248-46CD-8BCC-079495224D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09C42-3D17-4EF2-98C5-3E25090FCCA1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E698C7-6E4E-465A-9799-625176170C7B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7279AFC-625C-4B69-9B28-5575268756CF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55F3D27-8714-4C86-924F-EF271DAA5D9C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95D57E-65D3-42E6-8E7B-C1FF3C0D5898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DFC020-6BC6-4033-B795-B63D86E572C3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EC64D7-F59D-40E8-8F73-4BD0A84C6BA7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8E7A40-7118-48B2-BCF7-F9E0FD4EE48B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5EE3A5-D17D-4E96-86BF-65A81CB48FCE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DC02E4-BB8A-4123-A4D7-64C8BF1AF660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FD75ED-B5DE-42B1-9BA4-959E71055F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5AEC2-766E-4919-8822-DB9C17C541BB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8BF789-A620-4059-8D3E-B9BD96EE4916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9A9E59-8499-4FA5-936C-F1EC73F06980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1EA2E4-F136-4368-B10B-4D6BFAFDA592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90176B-A5F2-4763-BD43-4A3DBEE63B39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4BBC46-CE4C-4D27-9D69-9A69ADA868FD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EB8C532-0ADB-4288-ABFE-0424FB8E1008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765F68-14CA-40C0-9BC9-C82170AB111C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38D4BF9-8220-4A5C-921D-7D3162929732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5E389CF-6856-44EE-8301-F0BB5C5CE146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B1F3A0-9680-44CF-9B10-6B6DFDE1AF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E08F6-E4B1-4226-8F55-D96DA0BF5E0E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51D7D14-CE88-4E17-81D5-BE417E8BEA78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3A392E-19B6-4347-ADEB-05CAE70427C6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1B1E034-CAA5-4C2F-AEF1-E11520B88359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A506680-0DB6-4960-BB79-C081151C7D08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31A76F-446F-4EDE-A622-B8E4CCDFB6F0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05A8EC-6EBA-4994-85BF-38223A82C239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C0678C3-5708-4073-A3DE-3234E1E73688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23112D-6BDE-4371-90C8-5D3B4780EF39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96B8752-988E-428F-9C52-7722926963F8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C101219-158A-4B6F-9427-B1E44F5E1A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7E96D-1697-488D-A23A-ECC89808BAB2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3BDED81-C8C8-4072-9FE5-0602F6EEDB9C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253F39-0BA6-45C8-AD69-71A1CCD6468B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1B981E-04A0-4999-B993-94377D591305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4CADBEE-47FE-4834-BC11-4EA6C973FDBB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8EEC4D-46BA-4467-B3BC-D944E042C1EA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7576E9-AE02-4F88-8E3B-701DEF741D8A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A5BDDF-0E8C-4E41-BC36-C59A4485B69F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B42FCF-03F1-4EE5-8A9B-52A8210EA106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590787-C19F-4832-AE15-F6E1005A4F65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819D05-DA9E-4C70-851C-8A088E2665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E78F2-BF4E-4BED-86E1-B9AA48D3248A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28AEF8-BCD8-444A-9447-722DE5B12CB6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4333B7-CB78-4545-94A5-04E80E683246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D7C5C7-ECD8-487A-8117-A665D3FE1612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EC43B9-062D-4FCE-ABD5-12A4CD5B6BB7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F2C7A0-61E9-4534-8A00-92BC86AB96DC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D09686-B1C9-4CC0-AFD5-F812891F5AF4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750052-F027-4689-B46E-5961948B68D0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E3DF06-BD6A-4011-997E-823FB041E6EB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BAFFBE-A339-4C07-A2A3-035AB7DF050F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C3A492-8E48-4697-AD29-8273C487E2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B1D8A-EAFC-4358-9BAE-ED641C5569E8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B21F89-F7AF-49C9-B1F9-5D22F057739C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6396631-9B25-4B34-B92D-8077007DA50E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01407F-9874-407D-9342-A6579B69315C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FFF5C4C-C5EA-4D7B-B66E-50F867DA8CF7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5DA1B0B-F6E1-4CC5-9332-5AB743AB4934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E8D661E-558B-482E-A852-E0461B422001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134BA3A-F04A-4A3B-A33F-52C823C6994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5DF981F-C550-4904-A884-34F69274E5A1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317D8B-1FD2-42FA-B293-0C0083FCF8AB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5BFAB58-2552-4B5A-BD41-7BA083932F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6C7B-B2E6-4660-A7BE-1D19807D1516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55CC1FD-808E-4A02-A6BF-C8A9AD4A7930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343F7A-6637-4590-AC40-26EFFDB6D6D7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75C6F60-5F39-4951-BF58-C742F3656C66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46E870C-F30D-4495-9103-33CD9A43767D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5032ED-F2D6-43E6-B408-62302AE0DC60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501FA80-BBC8-4323-BC0D-1980F4940350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A6BD350-CCAF-4789-A14C-9B0F82CB1AB2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2C08434-2CFC-4682-A07A-9CA2C67E1F64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25969F0-796E-4CC6-A2D2-8873B24C51E0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20F863-4C60-42ED-80F4-2F287A11A1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5600-4D92-446B-884F-228B242AE540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A9993DB-B660-48CD-8B9A-3BF615C407CE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9E5613E-97BC-49B5-96D8-63F24C458E74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FAA4EF0-B5EE-466E-B802-4751D264B8D3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4267064-507F-40FC-B7B1-005DC97EBBB8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7378799-0F50-4CDC-A3A2-8231F58FB04A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580AF5-8B58-4046-AC62-D56613297BE7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223905-B126-4115-966F-BEA60F40811D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D16DB7-FD1D-4D2C-B439-5553817D0FE2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7996D5-2616-40E7-AFFF-271BC2B4A9C2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902F7A-2206-4B3E-AB01-E1DA6F4DBC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5FA8-6251-4907-A17B-9E413C89E550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4F5A3B-EDCE-4E40-81AF-CE8378C2849B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EC6504-703A-4BD3-92F8-6C32888F8234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E9FE98-4AEF-48DB-A145-4C723C857CC1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E18050-9262-4EF6-B96C-2D3FE7AF101C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B0F79A-9F97-47C8-9487-E7CEFA366FDC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3EB559-C191-4A31-886F-03C0892DBE0C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1491F2-6A3D-480C-B7A2-79D40558C3DC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084716A-1A0A-4DCF-BCCA-72AE864F6F71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21D622F-CF62-4978-8EBF-4139FBE8F709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474902A-2E2C-459E-9D83-7896B14BB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D55BE4-39B2-4852-9A34-55DA9F24035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B61F02-E516-4990-993C-0C06447B73F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D4B1E6-191E-4DCE-A039-5C3CD208B62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 type="sldNum" idx="10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2C1D4F-02E5-4FA6-86ED-EC9BC3C8CC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 type="sldNum" idx="10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DF4BE-D0B2-4DA8-8F59-7ADB6C4B1C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B7089B-30E8-4258-8F07-F5BCE0145E3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 type="sldNum" idx="10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A174D-56B2-45C2-905A-D5E593F20F9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 type="sldNum" idx="10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834C4D-2EA1-43FE-B750-950B3ACA6C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4BBDBC-06D5-4493-8166-8F7330AA7A4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 type="sldNum" idx="10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E5D396-5D41-4955-AE0F-1682274723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 type="sldNum" idx="10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08D6A7-1BF8-4235-AC1E-861B83CD5CD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982EB-1CEB-49EC-8BB4-6915692ED54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0A0069-4AD5-4E9E-AEC5-187C9D80DC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 type="sldNum" idx="1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DCF71D-8F80-4B20-893C-D3E396FF8D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 type="sldNum" idx="1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4CD671-FB3E-4669-86D6-FCD55D816F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6CC8E8-396F-4C74-AF21-07A89827179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3"/>
          <p:cNvSpPr>
            <a:spLocks noGrp="1"/>
          </p:cNvSpPr>
          <p:nvPr>
            <p:ph type="sldNum" idx="11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2ADDEB-A5FF-4D1E-A002-513CE69B2F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 type="sldNum" idx="1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F21F77-ED44-4DEF-96B2-5B293235654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 type="sldNum" idx="1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A31F88-4E0C-4D44-9597-FD339AF9628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6112F4-D942-4A5A-A945-B8DEE5AB1D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 type="sldNum" idx="1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5BA31E-005B-4764-8068-46A20E96C0D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3"/>
          <p:cNvSpPr>
            <a:spLocks noGrp="1"/>
          </p:cNvSpPr>
          <p:nvPr>
            <p:ph type="sldNum" idx="1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DCD7A2-96AF-47A7-A300-2DF96B0817D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 type="sldNum" idx="1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AAB198-7CF2-42E8-9E3C-D0E48163E32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75A6B-715D-423E-AACD-F4E3FC558B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3"/>
          <p:cNvSpPr>
            <a:spLocks noGrp="1"/>
          </p:cNvSpPr>
          <p:nvPr>
            <p:ph type="sldNum" idx="1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DF0F99-BE51-4169-A7BF-764C4631AA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 type="sldNum" idx="1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3ACFF2-00F0-4A7E-8A8B-005BE7F514B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CE2669-20EF-4EF2-A448-774174C72C9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 type="sldNum" idx="1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E716A9-DE23-49AF-875E-A2C5B6B7A39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3"/>
          <p:cNvSpPr>
            <a:spLocks noGrp="1"/>
          </p:cNvSpPr>
          <p:nvPr>
            <p:ph type="sldNum" idx="1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029BEE-9CDE-4413-8100-2FDBC02D09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C0C86E-DD54-4C7E-9D19-50E7E1C23BD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 type="sldNum" idx="1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6BEB79-8762-4E08-B57A-D303ADBC4D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 type="sldNum" idx="1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F39A1A-FAFE-4BC2-AC40-52B40F376D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 type="sldNum" idx="1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036736-30B5-4E29-95E7-D2CE7699DC9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 type="sldNum" idx="1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033AF3-D336-49EE-B67A-E274F53E84B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89A874-6A52-4AA8-AC03-7EA73B3FE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3"/>
          <p:cNvSpPr>
            <a:spLocks noGrp="1"/>
          </p:cNvSpPr>
          <p:nvPr>
            <p:ph type="sldNum" idx="1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B725CD-9252-4D9E-B867-C31262D57B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sldNum" idx="1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B0099-C4AE-4B3B-A72B-8C9EF0E778B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 type="sldNum" idx="1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1965A-A97B-4791-9259-8301B1CC706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 type="sldNum" idx="1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8BC83C-327B-40FE-8EEE-122FC0C5D09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3"/>
          <p:cNvSpPr>
            <a:spLocks noGrp="1"/>
          </p:cNvSpPr>
          <p:nvPr>
            <p:ph type="sldNum" idx="1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F11E93-D932-45A2-9AEA-5BBF642C84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4203C8-8D1F-41BD-9176-223B2142323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3"/>
          <p:cNvSpPr>
            <a:spLocks noGrp="1"/>
          </p:cNvSpPr>
          <p:nvPr>
            <p:ph type="sldNum" idx="1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2BB2CC-71F3-4926-BD6C-C55AFB74787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 type="sldNum" idx="1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AD7235-FDBC-45BA-9710-9476D8D0E0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 type="sldNum" idx="1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81EF59-09FE-4428-A035-E63E470DD9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 type="sldNum" idx="1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519DC3-63C8-468F-AF0B-3D4154D0B6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6F2D54-0258-4BE7-8FD4-92C9198F376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3"/>
          <p:cNvSpPr>
            <a:spLocks noGrp="1"/>
          </p:cNvSpPr>
          <p:nvPr>
            <p:ph type="sldNum" idx="1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348100-B532-46FC-9392-A077240A30C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 type="sldNum" idx="1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572EAF-A362-4F61-8C83-22A168F07E1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3"/>
          <p:cNvSpPr>
            <a:spLocks noGrp="1"/>
          </p:cNvSpPr>
          <p:nvPr>
            <p:ph type="sldNum" idx="1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D9EED2-9F9F-485E-9C08-CD179575B33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3"/>
          <p:cNvSpPr>
            <a:spLocks noGrp="1"/>
          </p:cNvSpPr>
          <p:nvPr>
            <p:ph type="sldNum" idx="1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7CE55C-1E65-4BB7-8189-6D783A8A64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3"/>
          <p:cNvSpPr>
            <a:spLocks noGrp="1"/>
          </p:cNvSpPr>
          <p:nvPr>
            <p:ph type="sldNum" idx="1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7F6FDE-92E6-4F48-B61B-1F0097EE4E1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 type="sldNum" idx="1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CAAC6D-127C-4574-93D9-F472A848834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 type="dt" idx="14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373D2B-DF1D-4611-8083-52739D9BD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 type="dt" idx="14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 type="sldNum" idx="15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0FDE91-14A9-4EA1-9660-F06899B4F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 type="dt" idx="15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 type="sldNum" idx="15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6312A9-CE70-4C22-87AA-BA6FCFA2B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PlaceHolder 3"/>
          <p:cNvSpPr>
            <a:spLocks noGrp="1"/>
          </p:cNvSpPr>
          <p:nvPr>
            <p:ph type="dt" idx="15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PlaceHolder 4"/>
          <p:cNvSpPr>
            <a:spLocks noGrp="1"/>
          </p:cNvSpPr>
          <p:nvPr>
            <p:ph type="sldNum" idx="15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54AD94-A07D-4074-8A62-F8EDE1C6D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64360D-28B2-4D39-BDE4-D56077090F1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 type="dt" idx="15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PlaceHolder 4"/>
          <p:cNvSpPr>
            <a:spLocks noGrp="1"/>
          </p:cNvSpPr>
          <p:nvPr>
            <p:ph type="sldNum" idx="15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624942-8786-43AE-951B-D38D2AD83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PlaceHolder 3"/>
          <p:cNvSpPr>
            <a:spLocks noGrp="1"/>
          </p:cNvSpPr>
          <p:nvPr>
            <p:ph type="dt" idx="15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PlaceHolder 4"/>
          <p:cNvSpPr>
            <a:spLocks noGrp="1"/>
          </p:cNvSpPr>
          <p:nvPr>
            <p:ph type="sldNum" idx="15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6C079B-8656-4910-9599-52E42B9B1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 type="dt" idx="15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 type="sldNum" idx="16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AB84F-256D-4A02-9F0E-C98834F75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 type="dt" idx="16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 type="sldNum" idx="16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144E54-FDF2-40C0-9DE5-7D883C4DC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16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sldNum" idx="16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2D926E-41EE-49E4-9C56-D212A453A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PlaceHolder 3"/>
          <p:cNvSpPr>
            <a:spLocks noGrp="1"/>
          </p:cNvSpPr>
          <p:nvPr>
            <p:ph type="dt" idx="16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4"/>
          <p:cNvSpPr>
            <a:spLocks noGrp="1"/>
          </p:cNvSpPr>
          <p:nvPr>
            <p:ph type="sldNum" idx="16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7E022-70E3-434A-9ABB-13018C2DA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PlaceHolder 3"/>
          <p:cNvSpPr>
            <a:spLocks noGrp="1"/>
          </p:cNvSpPr>
          <p:nvPr>
            <p:ph type="dt" idx="16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PlaceHolder 4"/>
          <p:cNvSpPr>
            <a:spLocks noGrp="1"/>
          </p:cNvSpPr>
          <p:nvPr>
            <p:ph type="sldNum" idx="16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D546F-9649-4B18-817E-3A1CE509E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56936-DBED-4A17-8886-5E04B455AC8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97F48B-84C1-4CC7-BDAE-F644D3D6278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27AE8-9C06-4E81-92F2-12CE8AD837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C447C1-8DF1-4CB1-8682-39936A12226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2B37EF-2170-45C5-8C2A-4641CEB1F1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1534EB-DAEB-445C-8CFB-68AF259107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907A33-F2F8-480C-BCBD-655A032CBC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45B99C-40CB-4434-8A6A-106E49FF6A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8C6158-4D5E-45E9-B66D-389119E57CC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B46625-B767-4270-8EB4-366C4A130A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81D15F-7F41-4379-AC9F-3AFC7A1FB3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979245-BC7A-4D7D-8480-B42D010AD84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49F5CB-BB5F-42A3-BC6D-9B0AB85B18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3A708-886D-49A6-8EF4-4A213C6589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1B633E-CB3F-480B-AA83-A92F84E68DB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A236F1-ECC3-467A-9374-BFC87F25308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DF0D46-078D-4D12-958D-BCDD4EE8D46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9434BF-EACE-42C3-8BFB-32716F948B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0338B6-95B6-4DB5-8914-079C3E19D90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45A52F-818E-4EA3-A831-8A223F61BA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EDB0B1-66B6-48D6-9C88-B590E4E526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A40C8D-8674-432E-964E-8BFB2E49C37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33757C-34D3-457E-8E3C-7ABD4DF2644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0AC9CC-0834-4AE5-8F23-34D5E102164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8B6633-5A14-4D13-BEE4-3597A675DB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EFCA77-02AD-4E71-A215-329F8E2B4CE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88A3F3-7386-4568-AD6D-EB37037002F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EED990-C5A8-46DC-89C7-D050F647E0D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9B85AD-6476-4A3B-A439-5AB0960F3B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E38361-180E-498A-BD10-44EEC3C70E9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50747-F26E-4B07-BF7F-EF11662CB18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3FCE04-34F1-4866-9D78-00480B42CA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DEAEAA-08C6-4A34-AD54-731B684A783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E6DC87-11CB-49B8-82F2-21FAB9E0C96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F2C607-A6DC-4A51-B001-108E17FDA0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D7175A-8B74-4080-ABE9-B4659AC9C6F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38BC9E-93E5-4C15-814F-E850B03C45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D6A625-6BB4-4386-AA33-09CCB5ABF9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4803F0-AA5E-4330-9AC0-BEB69E5C30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F70C3-59E4-4ACA-959B-9DD46D243CA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C34C83-8577-4E2C-ADD1-BC783CEA10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074504-9B8D-4A6F-845E-960A81260C6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56CC02-E841-4126-A7D4-C4CCB2ADCC2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6870F1-CAE7-4913-8C3F-D77F2C0A0B0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3F32A9-73C5-475E-9F0B-2EE763DAE2D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54DBBB-596F-4356-BD44-E4536B25FA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A8F6C2-F81B-4266-AF62-55E963247AB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8629F2-75F5-44EF-BB08-FEFFED3BECF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300FE5-660D-4F28-934C-2C3477E52F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8DFD1B-AA9E-4453-BC34-022D2CCE9C5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68F992-A370-48DD-AE16-7B7A0E1D7CE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F41D6B-D288-488E-A1C2-3DDDC143706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sldNum" idx="6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50A11F-2412-47C3-B93F-A0B11EC46EC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E3267-4A85-43C1-B253-7A21FB8AA81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16B970-8E41-40AA-B41D-8164A01269C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sldNum" idx="6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06E1E4-15A3-463E-84D1-6E4FDF61C7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C6D79-929B-4536-A607-E9289502C2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AE7AC2-37F9-491B-A73B-D7D86F43676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sldNum" idx="7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016AA-DBCD-4343-8733-D8DE722DC2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7CF0BB-5C60-4F69-9B8D-B52EBB0F57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BA7D0A-3AF3-4E4B-8239-DA3BC51F8E2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F0C735-E5A2-4B32-81BF-D1995D136A2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sldNum" idx="7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8443CF-B7DE-43CB-8E6D-D27139F3A2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260E4B-4EBD-42B1-B664-007F16E772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1E758C-81DA-427F-A3B0-4218D5B3BE1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7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D51798-6FCB-4C48-AF9D-A18B62A0709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936DDD-7CCD-4421-BA69-3FB5A9E2FEA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05A28F-BFFD-4DE9-A2A0-98DC64D71E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 type="sldNum" idx="7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B80537-D197-4C8D-B941-FFCC5184B2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826A93-0D4F-449F-A36A-55CB47BAA9A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20F8F6-88D8-42ED-9753-D883A2DB71A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11BC61-8765-4D05-AA33-CD06CB218D9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sldNum" idx="8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F434A5-EB04-45AF-9F83-07DA45E125E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CBA998-18CD-4A94-A577-6D98F2282F4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DE706E-7DC7-4B5D-97DD-A2505FA6B09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8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A63646-EAA3-4011-95F6-F35B13DEE5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E185F3-16F0-4020-B30D-6A7C71EEF2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5A3CDF-37B7-49ED-82CD-F649D1D8A0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 type="sldNum" idx="8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412751-D02C-4229-BBAA-0D6EB261001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9FCBCD-0EEF-4B40-9487-A4193BFAB5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BC7F52-8470-4F5D-9761-1B136E547E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4A4EEE-F560-4E5A-BCD8-07305CAC38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 type="sldNum" idx="9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397831-161D-4224-A7C4-E53580755B7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9EBAE4-60BF-4397-B985-53FC512002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908ED0-0D5C-4198-99C1-26F8D025DE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sldNum" idx="9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23D243-FC31-4DFC-865E-D60A2F6B9EF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828E9-0463-4626-BFB9-04CAC24A915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AC1378-8570-4262-8A32-6FF4B493A0D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Num" idx="9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3FE42A-A561-4236-B244-D950F958094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10A2D3-E05D-4E1D-B3AF-4712567DFCA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 type="sldNum" idx="9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4043A2-981E-40AD-A86E-B29AD7A8A2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 type="sldNum" idx="10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D7A491-C08A-41B2-A87F-68E7EE0CD7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5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5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Rectangle 3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6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6397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6398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6399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6400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7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7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8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8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8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9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9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9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2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03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4" name="Rectangle 5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5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0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0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1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1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3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4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5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5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6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6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35:40Z</dcterms:modified>
  <cp:revision>1</cp:revision>
  <dc:subject/>
  <dc:title/>
</cp:coreProperties>
</file>